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EFF-EDCC-473A-891C-73859176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9C9-1B76-48AD-9BFB-4A0ADEF4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EA5-469E-4259-A4C2-9403A01D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0B7-6EDD-4CDC-8724-A7B267A8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9FA-DEB7-487D-B68F-E3C527F7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3BF-28E5-4BBA-8553-170BA2B8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D47-F935-4B8A-ABC1-ED8A41AF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9CC-6DD8-440B-9B8A-44F72EFB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693-9ACE-419A-9DA5-D93E30B9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7A6-48FE-44BC-B91D-AE3A3A3F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CDC-310E-42A7-9FD1-8A1BA4B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FB2-B8F7-4070-A14A-8F6417AA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C9FA-AAE3-4969-9E60-FD31CEADD3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27280" y="2997000"/>
            <a:ext cx="59752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linical biomecha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19280" y="4149720"/>
            <a:ext cx="7993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. Prof. Jiří Burša, P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e of Solid Mechanics, Mechatronics and Bio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y of Mecha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no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ec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FSI-ZP1-ANGL-SPEC"/>
          <p:cNvPicPr/>
          <p:nvPr/>
        </p:nvPicPr>
        <p:blipFill>
          <a:blip r:embed="rId1"/>
          <a:stretch/>
        </p:blipFill>
        <p:spPr>
          <a:xfrm>
            <a:off x="468360" y="333360"/>
            <a:ext cx="2232000" cy="14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Obrázek 6" descr=""/>
          <p:cNvPicPr/>
          <p:nvPr/>
        </p:nvPicPr>
        <p:blipFill>
          <a:blip r:embed="rId2"/>
          <a:stretch/>
        </p:blipFill>
        <p:spPr>
          <a:xfrm>
            <a:off x="3205080" y="407880"/>
            <a:ext cx="5759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What is clinical biomechan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is application of knowledge, approaches and methods of mechanics to biological objects (human body – human biomechani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linical biomechanics aims at solutions to biomechanical problems required by clinical pract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xperimental and computational meth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Basic quantities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ss (force per unit area [N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Pa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ain (relative deformation, elongation per unit length [m/m = 1 –dimensionless quantity])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Young’s) modulus of elasticity– stress/strain [N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Pa] – represents the material stiffness (slope of the stress-strain dependen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Basic types of stress-strain behaviour</a:t>
            </a: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astic (linear or non-linear) – no permanent deformation after u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astic-plastic (some portion of deformation remains perman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scoelastic (deformation is time and velocity depen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Basic types of animal living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075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l living tissues can be divided (from the mechanical viewpoint) into two basic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rd tissues (e.g. bones) – showing small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ft tissues (e.g. muscles) – showing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arge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iated muscle t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ooth muscle tissue (occurs also in blood vessel w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specially organs created of soft tissues show highly non-linea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ess-strain depend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y is the description of large strain behaviour as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 nonlinearit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SI-ZP1-ANGL-SPEC"/>
          <p:cNvPicPr/>
          <p:nvPr/>
        </p:nvPicPr>
        <p:blipFill>
          <a:blip r:embed="rId1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52" name="Object 5"/>
          <p:cNvGraphicFramePr/>
          <p:nvPr/>
        </p:nvGraphicFramePr>
        <p:xfrm>
          <a:off x="1344600" y="1628640"/>
          <a:ext cx="6454800" cy="446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4600" y="1628640"/>
                    <a:ext cx="645480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6" descr="GSTR110"/>
          <p:cNvPicPr/>
          <p:nvPr/>
        </p:nvPicPr>
        <p:blipFill>
          <a:blip r:embed="rId4"/>
          <a:stretch/>
        </p:blipFill>
        <p:spPr>
          <a:xfrm>
            <a:off x="1332000" y="2565360"/>
            <a:ext cx="6750000" cy="1822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68360" y="442800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nonlinearity is characterized by "large" displacements and/or rotations, whi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mpanied by large str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displacement … slender structures – fishing rod, frames, sh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tr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asticity of steel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ing simulatio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)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... hyperelasticity of elastomers (rubb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Properties of arterial wall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chanical behaviour of arterial wall tissues sh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ructural non-homogeneity – arterial wall consists of several layers with different structure and properties, changing also in axial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ach layer created of several components (elastin membranes and fibres, collagen fibres, smooth muscle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large strain under physiological lo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on-linear stress-strain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scoelasticity– time-dependent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isotropy –  material properties are dependent on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erent properties under tension or 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ry low compres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ry pronounced temperature dependence of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pendence on loading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pendence on the age of an indiv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modelation under influence of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ctive behaviour – mechanical properties can be changed substantially by activation (or relaxation) of muscle fib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-516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..to be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ny different constitutive models have been created to describe these propert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yperelastic isotropic or anisotropic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models are most frequently used for modelling of soft tiss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Clinical Bio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eals with human bo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lutions to biomechanical problems required by clinical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lutions at the level of tissues and higher structures (organs, systems of organs, whole body)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Ilustrativ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big joints (e.g. hip, knee, elbow j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without implants (osteotomie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with implants (endoprosthe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vertebral column and its elements (vertebras, intervertebral pl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arteries (e.g. aneurysms, vascular graf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fixators of lower extrem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cs of  vertebral fix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72000" y="1855440"/>
            <a:ext cx="51847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nocni brno1"/>
          <p:cNvPicPr/>
          <p:nvPr/>
        </p:nvPicPr>
        <p:blipFill>
          <a:blip r:embed="rId1"/>
          <a:srcRect l="5197" t="7171" r="5194" b="9837"/>
          <a:stretch/>
        </p:blipFill>
        <p:spPr>
          <a:xfrm>
            <a:off x="1835280" y="2490840"/>
            <a:ext cx="6913440" cy="410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SI-ZP1-ANGL-SPEC"/>
          <p:cNvPicPr/>
          <p:nvPr/>
        </p:nvPicPr>
        <p:blipFill>
          <a:blip r:embed="rId2"/>
          <a:stretch/>
        </p:blipFill>
        <p:spPr>
          <a:xfrm>
            <a:off x="468360" y="333360"/>
            <a:ext cx="2813040" cy="18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Obrázek 4" descr=""/>
          <p:cNvPicPr/>
          <p:nvPr/>
        </p:nvPicPr>
        <p:blipFill>
          <a:blip r:embed="rId3"/>
          <a:stretch/>
        </p:blipFill>
        <p:spPr>
          <a:xfrm>
            <a:off x="3384720" y="297000"/>
            <a:ext cx="56163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38:20Z</dcterms:created>
  <dc:creator>janicek</dc:creator>
  <dc:description/>
  <dc:language>en-US</dc:language>
  <cp:lastModifiedBy>Jiří Burša</cp:lastModifiedBy>
  <dcterms:modified xsi:type="dcterms:W3CDTF">2011-09-05T09:14:00Z</dcterms:modified>
  <cp:revision>140</cp:revision>
  <dc:subject/>
  <dc:title>VÝPOČTOVÉ MODELOVÁNÍ V KLINICKÉ MAKROBIOMECHANICE</dc:title>
</cp:coreProperties>
</file>