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550-F4F2-4B53-9460-4F6F83E6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5E1-EC29-41DD-9F5B-50D1CC9B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30F-DBA3-4E35-A84B-75DD2E58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537-3650-453D-A83E-C75E2C19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B86-1879-4F9E-8B60-CACEFFA1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D90-F2F6-4650-B426-0C015CFD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7A9-408D-45F5-AE18-97220B0D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FB2-B80C-47F9-93E2-4517B66F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B28-20B4-4A3D-8580-C257274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012-F4E4-43F6-9CC2-9DB6A01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A5D-5C66-445F-8C1B-07ED347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AC8-3BC5-4CF4-84BC-7CEADF0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37F2-FFBB-4A60-BC39-809F94FC4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2097000"/>
            <a:ext cx="86407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xamples of applications of biomechanics on external bone fix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ří BURŠ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eněk FLORIA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u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olid Mechanics, Mechatronics and Biomechanic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no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ec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4" descr=""/>
          <p:cNvPicPr/>
          <p:nvPr/>
        </p:nvPicPr>
        <p:blipFill>
          <a:blip r:embed="rId1"/>
          <a:stretch/>
        </p:blipFill>
        <p:spPr>
          <a:xfrm>
            <a:off x="2987640" y="446040"/>
            <a:ext cx="576108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23200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311C-166A-4220-9AC5-AB7F74A3E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62864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thofi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ator makes good the function of stabilization of the broken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er clearance between the bone and the fixator and its higher extension decrease the stiffness of the fix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angerous point of the fixator lies in his ne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dangerous point is in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chan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ew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under pronounced bending load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nfluences unfavourably the mutual displacements of bone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64360" cy="971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99b8ba"/>
              </a:gs>
            </a:gsLst>
            <a:lin ang="5400000"/>
          </a:gradFill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Fixators of lower extrem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8920" y="2168280"/>
            <a:ext cx="8426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ompared types of fixators:   fixator POLDI 07 (elongation of lower extrem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ixator ORTHOFIX (fixation of leg fra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he analyses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E stress-strain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fixator elem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callus (for  POLDI 07 fix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 bone tissues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valuation of allowable deformation of fix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Older types of fix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58323" t="5005" r="7851" b="13523"/>
          <a:stretch/>
        </p:blipFill>
        <p:spPr>
          <a:xfrm>
            <a:off x="5364000" y="1341360"/>
            <a:ext cx="2847960" cy="467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1949" t="7170" r="48111" b="21150"/>
          <a:stretch/>
        </p:blipFill>
        <p:spPr>
          <a:xfrm>
            <a:off x="539640" y="1341360"/>
            <a:ext cx="4392720" cy="468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64000" y="602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izaro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fi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26920" y="609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einm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n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178D-2D80-4FF1-96CE-363C70B03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10099" t="6251" r="19196" b="0"/>
          <a:stretch/>
        </p:blipFill>
        <p:spPr>
          <a:xfrm>
            <a:off x="287280" y="1557360"/>
            <a:ext cx="4094280" cy="489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rcRect l="0" t="0" r="56475" b="43115"/>
          <a:stretch/>
        </p:blipFill>
        <p:spPr>
          <a:xfrm>
            <a:off x="5580000" y="1341360"/>
            <a:ext cx="2016360" cy="181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rcRect l="30445" t="50561" r="28238" b="8359"/>
          <a:stretch/>
        </p:blipFill>
        <p:spPr>
          <a:xfrm>
            <a:off x="4067280" y="4581360"/>
            <a:ext cx="2448000" cy="167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rcRect l="58730" t="0" r="0" b="52586"/>
          <a:stretch/>
        </p:blipFill>
        <p:spPr>
          <a:xfrm>
            <a:off x="6659640" y="3141720"/>
            <a:ext cx="2305080" cy="1822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FIX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OR POLDI 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D466-DCAF-4C9F-80AF-AD91BA5A4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Modelling of cal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9080" cy="4967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079640" y="1773360"/>
            <a:ext cx="79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165800" y="1376280"/>
            <a:ext cx="1582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compressiv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A711-2142-46B5-89BC-437EA964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n Mises equ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val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8095" r="4628" b="11265"/>
          <a:stretch/>
        </p:blipFill>
        <p:spPr>
          <a:xfrm>
            <a:off x="0" y="1628640"/>
            <a:ext cx="5796000" cy="445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0" t="14567" r="76296" b="48060"/>
          <a:stretch/>
        </p:blipFill>
        <p:spPr>
          <a:xfrm>
            <a:off x="7093080" y="4869000"/>
            <a:ext cx="9349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>
            <a:lum bright="-6000"/>
          </a:blip>
          <a:srcRect l="27379" t="14567" r="19645" b="12735"/>
          <a:stretch/>
        </p:blipFill>
        <p:spPr>
          <a:xfrm>
            <a:off x="5940360" y="1125360"/>
            <a:ext cx="2925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925-062B-461B-B9C0-2E09C904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ORTHOFIX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Fix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4138" t="0" r="44848" b="0"/>
          <a:stretch/>
        </p:blipFill>
        <p:spPr>
          <a:xfrm>
            <a:off x="216000" y="1736640"/>
            <a:ext cx="2663640" cy="418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rcRect l="7451" t="0" r="17108" b="0"/>
          <a:stretch/>
        </p:blipFill>
        <p:spPr>
          <a:xfrm>
            <a:off x="3311640" y="1628640"/>
            <a:ext cx="2631960" cy="435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00720" y="1665360"/>
            <a:ext cx="2270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3AA1-440B-4542-BCF2-5D04C771F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9700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isplacements of fixator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6040" r="52928" b="63431"/>
          <a:stretch/>
        </p:blipFill>
        <p:spPr>
          <a:xfrm>
            <a:off x="1079640" y="1449360"/>
            <a:ext cx="3132000" cy="1735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rcRect l="47080" t="6040" r="0" b="63431"/>
          <a:stretch/>
        </p:blipFill>
        <p:spPr>
          <a:xfrm>
            <a:off x="5256360" y="1415880"/>
            <a:ext cx="3384360" cy="166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rcRect l="0" t="61864" r="51472" b="2383"/>
          <a:stretch/>
        </p:blipFill>
        <p:spPr>
          <a:xfrm>
            <a:off x="1150920" y="4292640"/>
            <a:ext cx="2987640" cy="18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4"/>
          <a:srcRect l="47745" t="61864" r="3006" b="2383"/>
          <a:stretch/>
        </p:blipFill>
        <p:spPr>
          <a:xfrm>
            <a:off x="5292720" y="4292640"/>
            <a:ext cx="3024360" cy="1874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403280" y="94464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displacement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403280" y="353700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616F-2B1C-451F-901F-0E843B524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0" t="6981" r="49377" b="54827"/>
          <a:stretch/>
        </p:blipFill>
        <p:spPr>
          <a:xfrm>
            <a:off x="0" y="1773360"/>
            <a:ext cx="3959280" cy="2319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1264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ress distribu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 the fixator and in the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2"/>
          <a:srcRect l="50031" t="3157" r="1797" b="54827"/>
          <a:stretch/>
        </p:blipFill>
        <p:spPr>
          <a:xfrm>
            <a:off x="5219640" y="1685880"/>
            <a:ext cx="3421080" cy="231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rcRect l="0" t="56335" r="49973" b="0"/>
          <a:stretch/>
        </p:blipFill>
        <p:spPr>
          <a:xfrm>
            <a:off x="0" y="4443480"/>
            <a:ext cx="3564000" cy="2414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rcRect l="50656" t="55527" r="0" b="0"/>
          <a:stretch/>
        </p:blipFill>
        <p:spPr>
          <a:xfrm>
            <a:off x="5219640" y="4292640"/>
            <a:ext cx="3313080" cy="2319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1368360" y="130500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n Mises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008000" y="4113360"/>
            <a:ext cx="70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. principal stress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. principal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38:20Z</dcterms:created>
  <dc:creator>janicek</dc:creator>
  <dc:description/>
  <dc:language>en-US</dc:language>
  <cp:lastModifiedBy>Jiří Burša</cp:lastModifiedBy>
  <dcterms:modified xsi:type="dcterms:W3CDTF">2011-05-14T19:18:02Z</dcterms:modified>
  <cp:revision>140</cp:revision>
  <dc:subject/>
  <dc:title>VÝPOČTOVÉ MODELOVÁNÍ V KLINICKÉ MAKROBIOMECHANICE</dc:title>
</cp:coreProperties>
</file>