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542-A9E1-463D-A8CA-48772A7C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00E-420C-48D1-BC82-E73E4B95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A36-EF53-4036-8E29-F80F3D08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A20-DE7A-419C-B674-4D5A14E4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EEE-9E8F-4E80-8BEC-643CECE4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1F3-5D85-43A5-837A-0F5FABF1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642-8425-4CB1-93B1-83F32AB6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355-8A2A-4927-96DF-948A52E9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C07-1B7B-4945-80D2-9438C195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88A-D0E2-4E9B-A886-2F7E944C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71B-DB0E-4B11-A1FF-095F1313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42E-8C17-4654-BC31-79769C34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DF14-69FF-4361-B97D-134987E64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81342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Scheme of some types of material behaviour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8920" y="620640"/>
            <a:ext cx="8682120" cy="5829480"/>
            <a:chOff x="178920" y="620640"/>
            <a:chExt cx="8682120" cy="5829480"/>
          </a:xfrm>
        </p:grpSpPr>
        <p:sp>
          <p:nvSpPr>
            <p:cNvPr id="43" name=""/>
            <p:cNvSpPr/>
            <p:nvPr/>
          </p:nvSpPr>
          <p:spPr>
            <a:xfrm>
              <a:off x="6923160" y="2792160"/>
              <a:ext cx="36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22760" y="4164120"/>
              <a:ext cx="89316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Elast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sol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37640" y="27921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178920" y="620640"/>
              <a:ext cx="8682120" cy="5829480"/>
              <a:chOff x="178920" y="620640"/>
              <a:chExt cx="8682120" cy="5829480"/>
            </a:xfrm>
          </p:grpSpPr>
          <p:sp>
            <p:nvSpPr>
              <p:cNvPr id="47" name=""/>
              <p:cNvSpPr/>
              <p:nvPr/>
            </p:nvSpPr>
            <p:spPr>
              <a:xfrm>
                <a:off x="4751640" y="1077840"/>
                <a:ext cx="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751640" y="1077840"/>
                <a:ext cx="20574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2236320" y="1077840"/>
                <a:ext cx="25146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4294080" y="1992240"/>
                <a:ext cx="4572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751640" y="1992240"/>
                <a:ext cx="9144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50880" y="1534320"/>
                <a:ext cx="1371600" cy="45756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36680" y="1992240"/>
                <a:ext cx="5713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50880" y="4849920"/>
                <a:ext cx="10285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rigid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055600" y="553572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73000" y="3249360"/>
                <a:ext cx="11221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25880" y="3249360"/>
                <a:ext cx="9619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66604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80160" y="3021120"/>
                <a:ext cx="1943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47120" y="4164120"/>
                <a:ext cx="77904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u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6237360" y="3706920"/>
                <a:ext cx="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08840" y="4849920"/>
                <a:ext cx="914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ewtonea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65680" y="4621320"/>
                <a:ext cx="571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5094000" y="5307120"/>
                <a:ext cx="57132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09040" y="1992240"/>
                <a:ext cx="2286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1550520" y="3821040"/>
                <a:ext cx="5372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50880" y="3821040"/>
                <a:ext cx="36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2880" y="3135240"/>
                <a:ext cx="8247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Isotropic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94360" y="2334960"/>
                <a:ext cx="12571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fluid (with unlimited cree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22760" y="2329920"/>
                <a:ext cx="125712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solid (with limited cree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751640" y="5992920"/>
                <a:ext cx="77904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15720" y="4164120"/>
                <a:ext cx="77904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us 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952040" y="4621320"/>
                <a:ext cx="57132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968200" y="3249360"/>
                <a:ext cx="11448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</a:t>
                </a:r>
                <a:r>
                  <a:rPr b="0" lang="cs-CZ" sz="1000" spc="-1" strike="noStrike">
                    <a:solidFill>
                      <a:srgbClr val="000000"/>
                    </a:solidFill>
                    <a:latin typeface="Times New Roman"/>
                  </a:rPr>
                  <a:t>immediate </a:t>
                </a: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deform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25680" y="3249360"/>
                <a:ext cx="13716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out immediate deform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372240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94080" y="3021120"/>
                <a:ext cx="5713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922480" y="4849920"/>
                <a:ext cx="7999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Linear 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32120" y="3706920"/>
                <a:ext cx="495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79960" y="4621320"/>
                <a:ext cx="3427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65480" y="4849920"/>
                <a:ext cx="9144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on-linear elast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3265560" y="462132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693520" y="5535720"/>
                <a:ext cx="571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23440" y="3706920"/>
                <a:ext cx="1141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7520" y="2334960"/>
                <a:ext cx="153144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864720" y="2792160"/>
                <a:ext cx="3427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07800" y="2792160"/>
                <a:ext cx="9144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3400" y="963360"/>
                <a:ext cx="160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erfectly visco-plastic matt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179960" y="1530000"/>
                <a:ext cx="1122120" cy="4572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elast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58600" y="1529280"/>
                <a:ext cx="1122120" cy="4572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65960" y="2329560"/>
                <a:ext cx="112212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visco 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550880" y="3135240"/>
                <a:ext cx="84564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Kinematic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22200" y="2334960"/>
                <a:ext cx="13716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perfectly 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79480" y="5992200"/>
                <a:ext cx="1600200" cy="457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Rigid sol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1093320" y="1992240"/>
                <a:ext cx="114300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178920" y="2792160"/>
                <a:ext cx="10285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666040" y="848880"/>
                <a:ext cx="12571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922120" y="55357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1680" y="4849920"/>
                <a:ext cx="1257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Non-Newtonean liqu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360" y="462132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54520" y="5421240"/>
                <a:ext cx="11772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properties independent of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175600" y="5992920"/>
                <a:ext cx="68544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g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12000" y="5421240"/>
                <a:ext cx="117036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With properties dependent on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351480" y="5307120"/>
                <a:ext cx="6858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37640" y="5307120"/>
                <a:ext cx="68544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600876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51840" y="6107400"/>
                <a:ext cx="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5184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26624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08960" y="6107400"/>
                <a:ext cx="3427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16600" y="2334960"/>
                <a:ext cx="11221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Visco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09040" y="1992240"/>
                <a:ext cx="14857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08360" y="2792160"/>
                <a:ext cx="4536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53720" y="3706920"/>
                <a:ext cx="1325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6237360" y="3935520"/>
                <a:ext cx="7999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3400" y="5992920"/>
                <a:ext cx="68580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las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7520" y="4849920"/>
                <a:ext cx="9601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Perfectly plastic-rigid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510640" y="2792160"/>
                <a:ext cx="2970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436400" y="3706920"/>
                <a:ext cx="1074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436040" y="3706920"/>
                <a:ext cx="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4720" y="5535720"/>
                <a:ext cx="1485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0600" y="4164120"/>
                <a:ext cx="1645920" cy="457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Conditionally perfectly 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6400" y="4621320"/>
                <a:ext cx="685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864360" y="4621320"/>
                <a:ext cx="571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23160" y="848880"/>
                <a:ext cx="18288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visco-plastic matter with harde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44880" y="620640"/>
                <a:ext cx="171468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Elastic-visco-plastic ma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939320" y="848880"/>
                <a:ext cx="194328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08-05-30T10:53:57Z</dcterms:modified>
  <cp:revision>313</cp:revision>
  <dc:subject/>
  <dc:title>Biomechanics  of smooth muscle cells </dc:title>
</cp:coreProperties>
</file>