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CC5-5BB2-4190-9239-A6601045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4F7-CF84-47A3-BFB7-D0D9FAC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490-4213-4E4F-AC69-A9F28214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506-2C92-4F76-9ADE-7136AB62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A71-AF92-4192-90CF-33988D31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C2F-D4B0-4392-9511-3BD4939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27C-3C86-474D-90E4-9E1A0116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D0F-842A-4BC6-A6CE-6AFD3C9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8AC-51F8-406E-829A-3A28B81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E98-C7FC-45F2-B944-772AF48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A80-9C3F-4413-8FA1-4EAEAB3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DE8-78A2-4FB0-9E60-8CD07C4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B97-8E1D-43C2-9EAF-C504465F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ela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5" descr="Elastin2.JPG"/>
          <p:cNvPicPr/>
          <p:nvPr/>
        </p:nvPicPr>
        <p:blipFill>
          <a:blip r:embed="rId2"/>
          <a:stretch/>
        </p:blipFill>
        <p:spPr>
          <a:xfrm>
            <a:off x="39243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ligament after having removed th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 t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gligibl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476360" y="200196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292720" y="4078440"/>
            <a:ext cx="19432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ck ligamen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403280" y="3741840"/>
            <a:ext cx="100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268360" y="4654440"/>
            <a:ext cx="1295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084720" y="580536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68360" y="5734080"/>
            <a:ext cx="15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col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716360" y="119700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a tendon – created of a nearly pure collagen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rrow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- 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 more pronounc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836720" y="2062080"/>
            <a:ext cx="19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581800" y="4005360"/>
            <a:ext cx="194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916360" y="595008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588000" y="5878440"/>
            <a:ext cx="2016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al properties of smooth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516720" y="5734080"/>
            <a:ext cx="201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(minutes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700360" y="58053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tch rati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37080" y="4149720"/>
            <a:ext cx="24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19280" y="170028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ooth muscle tissue of intestin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716360" y="126828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sured with smooth muscle tissue of intestine in a passive (relaxed) stat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oa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yst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s loo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prononounced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lax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Influence of smooth muscle excitation on the arterial wall stiffness (canine carotid ar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916360" y="1989000"/>
            <a:ext cx="115416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ner pressur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076640" y="5877000"/>
            <a:ext cx="3880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nge of artery radiu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443640" y="5237280"/>
            <a:ext cx="1946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relax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0" y="4365720"/>
            <a:ext cx="19461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ooth muscle cells excited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3T09:08:18Z</dcterms:modified>
  <cp:revision>295</cp:revision>
  <dc:subject/>
  <dc:title>Biomechanics  of smooth muscle cells </dc:title>
</cp:coreProperties>
</file>