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FC0-A20C-4C17-84C5-D7502397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B92-FA58-4B55-AB98-54FFC4DC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367-07A4-422C-9A6C-05839999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AB2-4050-4D36-9B76-234746A2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969-F8A1-470B-A9F7-E53CF780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2FC-59ED-4F24-9302-A524EED8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B4D-A3E8-4E16-9A3B-C8CA589F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3EE-1AA6-487B-A342-AC8B0078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34A-10E8-4E29-8A0A-5658A52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D03-E4FB-4D6A-AE01-5E83C7FC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300-A347-4D6B-BCED-DF10685D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CFA-AEF6-49F6-9229-27FCE6EF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E944-58FA-4B91-B324-5C08138237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SMC-kontraktiln&#237;.ppt" TargetMode="External"/><Relationship Id="rId4" Type="http://schemas.openxmlformats.org/officeDocument/2006/relationships/hyperlink" Target="file:///SMC-kontraktiln&#237;.ppt" TargetMode="Externa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Typický tvar hladké svalové buňky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(podle Anatomie, Čihá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9480" y="1504800"/>
            <a:ext cx="7925040" cy="3652560"/>
            <a:chOff x="609480" y="1504800"/>
            <a:chExt cx="7925040" cy="3652560"/>
          </a:xfrm>
        </p:grpSpPr>
        <p:grpSp>
          <p:nvGrpSpPr>
            <p:cNvPr id="43" name=""/>
            <p:cNvGrpSpPr/>
            <p:nvPr/>
          </p:nvGrpSpPr>
          <p:grpSpPr>
            <a:xfrm>
              <a:off x="609480" y="1504800"/>
              <a:ext cx="7646040" cy="2958840"/>
              <a:chOff x="609480" y="1504800"/>
              <a:chExt cx="7646040" cy="295884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rcRect l="0" t="2873" r="0" b="0"/>
              <a:stretch/>
            </p:blipFill>
            <p:spPr>
              <a:xfrm>
                <a:off x="609480" y="1504800"/>
                <a:ext cx="3710520" cy="29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2"/>
              <a:srcRect l="12832" t="5658" r="7084" b="8133"/>
              <a:stretch/>
            </p:blipFill>
            <p:spPr>
              <a:xfrm>
                <a:off x="4912920" y="1647720"/>
                <a:ext cx="3342600" cy="28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" name=""/>
            <p:cNvSpPr/>
            <p:nvPr/>
          </p:nvSpPr>
          <p:spPr>
            <a:xfrm>
              <a:off x="734760" y="4461120"/>
              <a:ext cx="7799760" cy="69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ladké svalové buňky      b) Hladká svalová tká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57200" y="5316480"/>
            <a:ext cx="800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notypy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dkých svalových buněk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aktil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ntet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26:45Z</dcterms:created>
  <dc:creator>Jiří Burša</dc:creator>
  <dc:description/>
  <dc:language>en-US</dc:language>
  <cp:lastModifiedBy>Jiří Burša</cp:lastModifiedBy>
  <dcterms:modified xsi:type="dcterms:W3CDTF">2007-01-04T11:49:08Z</dcterms:modified>
  <cp:revision>3</cp:revision>
  <dc:subject/>
  <dc:title>Typický tvar hladké svalové buňky  (podle Anatomie, Čihák)</dc:title>
</cp:coreProperties>
</file>