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873-E72E-48BF-8B76-795BB2A6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51B-9DE0-4F4D-B1D1-68619F03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BCF-8CF4-460E-ADAD-FCC6FDB4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86B-DDC1-4D6A-99D4-3536DB26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E4D-67C0-400D-B8B2-4763B7C0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34C-AFCE-47BE-B7B7-66F941D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F9D-9C7E-4211-B212-45B3E9F2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88E-9916-4F2E-A1BD-B06C955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B97-6D72-4701-BD49-0F64295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BFB-BC99-4627-97F6-9468729D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03D-2032-4652-9482-B96F2D0D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B2C-B753-4577-BED0-1CCCF604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696-7A3E-4A80-AC3D-F870B5E8D8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96520"/>
            <a:ext cx="4752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Základní typy tkání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 tepně s ateromatózním plá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73560" y="4219560"/>
            <a:ext cx="30351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olesterolov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ádro plátu – převážně pěnové buň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tepna7sateromem-geom"/>
          <p:cNvPicPr/>
          <p:nvPr/>
        </p:nvPicPr>
        <p:blipFill>
          <a:blip r:embed="rId1"/>
          <a:srcRect l="18116" t="10836" r="18116" b="21672"/>
          <a:stretch/>
        </p:blipFill>
        <p:spPr>
          <a:xfrm>
            <a:off x="539640" y="1724040"/>
            <a:ext cx="4967280" cy="415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6083280" y="1628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84720" y="2060640"/>
            <a:ext cx="25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084720" y="2924280"/>
            <a:ext cx="25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6083280" y="5300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Fibróz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ryt plá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2843280" y="1844640"/>
            <a:ext cx="324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348000" y="2276640"/>
            <a:ext cx="27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 flipV="1">
            <a:off x="3563640" y="2708280"/>
            <a:ext cx="259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H="1" flipV="1">
            <a:off x="4067280" y="3860280"/>
            <a:ext cx="201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 flipH="1" flipV="1">
            <a:off x="2842920" y="414972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6156360" y="5732640"/>
            <a:ext cx="208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ume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zbytkový průtočný průř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 flipV="1">
            <a:off x="1907640" y="4149360"/>
            <a:ext cx="424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17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84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3:09:08Z</dcterms:created>
  <dc:creator>Jiří Burša</dc:creator>
  <dc:description/>
  <dc:language>en-US</dc:language>
  <cp:lastModifiedBy>Jiří Burša</cp:lastModifiedBy>
  <dcterms:modified xsi:type="dcterms:W3CDTF">2011-09-05T07:58:05Z</dcterms:modified>
  <cp:revision>5</cp:revision>
  <dc:subject/>
  <dc:title>Základní typy tkání  v tepně s ateromatózním plátem</dc:title>
</cp:coreProperties>
</file>