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A3C-8D5B-473A-8744-4888BBED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613-39C2-4ECD-A6DC-487A29E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47A-52E0-4B3D-94B8-B0543CE0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BC6-1BCC-4369-9173-684B126F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902-B601-490D-BB26-DC000030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699-3C55-47AA-9DAB-76E3B526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C74-C820-493C-9858-7CF481CE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3EA-B5C1-4D12-9FEF-C5557AB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52A-C687-49FD-A08C-F9AA0C0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884-42F1-45DB-9F57-BCF4A3AD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208-25AD-417A-936E-C27FE56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E27-BBF5-45B7-9654-80D240B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3C47-A881-446C-91E0-A60DE096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erarchické úrovně struktury příčně pruhovaného svalu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 podle Smith T.: Lidské tělo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ortuna pri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raha, 199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2240" y="1760400"/>
            <a:ext cx="7566120" cy="4116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215280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é snopce (fascik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084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á vlákna (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rko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7640" y="26701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é myofila-mentum (myos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4470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nké myo-filamentum (aktin, tropo-myos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16:58Z</dcterms:created>
  <dc:creator>Jiří Burša</dc:creator>
  <dc:description/>
  <dc:language>en-US</dc:language>
  <cp:lastModifiedBy>Jiri Bursa</cp:lastModifiedBy>
  <dcterms:modified xsi:type="dcterms:W3CDTF">2007-01-07T10:40:49Z</dcterms:modified>
  <cp:revision>2</cp:revision>
  <dc:subject/>
  <dc:title>Hierarchické úrovně struktury příčně pruhovaného svalu ( podle Smith T.: Lidské tělo. Fortuna print, Praha, 1996).</dc:title>
</cp:coreProperties>
</file>