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ADE-F18C-4057-AF62-A5A810C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1C2-79E7-4DA7-A6C9-2696791E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7AB-05E6-4350-98EF-CBDD133F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0BB-7711-4AB2-A921-6CD8B53A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DD9-601D-4B1B-B89F-B8BC457F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46C-8A28-486C-A1C7-85331EC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3F3-1CB4-4986-A478-7616505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42E-519A-442D-B5F8-D64A891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583-23B3-4026-923F-629E468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C38-A034-4A5A-BB80-3192C066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1C1-EB07-4F49-95A1-3B834EB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F72-1D55-4C2B-A8D0-D62C80B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F38-BA35-480E-AC46-75B50D101C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echanotransdukce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Eukaryotická buň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každá buňka, obsahující buněčné jádro, které jí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odukci (nese genetickou informaci v podobě D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nou odezvu na změny v působení okolí na buňku (např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chanotransdukce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ransformace změn v mechanickém zatížení buňky do její biochemické ode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696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truktura živočišné buňk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71520"/>
            <a:ext cx="8305920" cy="5181840"/>
            <a:chOff x="457200" y="1271520"/>
            <a:chExt cx="8305920" cy="5181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2903" r="0" b="1369"/>
            <a:stretch/>
          </p:blipFill>
          <p:spPr>
            <a:xfrm>
              <a:off x="4007520" y="1271520"/>
              <a:ext cx="4755600" cy="47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1624320"/>
              <a:ext cx="3604320" cy="42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Legenda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(plasmatická membrán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ádro pokryté jadernou membránou s pó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adérko (nucleolu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granulární endoplasmatické retikul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ranulární endoplasmatické ret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tochondr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esmod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inocil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kreční granulom nebo lyzos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olgiho komple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ytoplasmatické inkl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ntrosom se dvěma centrio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membrána, na povrchu glycocaly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kroklk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chlípení pinocytotického váčku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0720" y="6000840"/>
              <a:ext cx="4858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2:47:31Z</dcterms:created>
  <dc:creator>Jiří Burša</dc:creator>
  <dc:description/>
  <dc:language>en-US</dc:language>
  <cp:lastModifiedBy>Jiri Bursa</cp:lastModifiedBy>
  <dcterms:modified xsi:type="dcterms:W3CDTF">2007-01-07T10:38:14Z</dcterms:modified>
  <cp:revision>4</cp:revision>
  <dc:subject/>
  <dc:title>Eukaryotická buňka</dc:title>
</cp:coreProperties>
</file>