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754-5CE8-4345-A197-56FAD81C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9DB4-5ACA-4E9D-9DF8-C35121AC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897-DA5F-46F2-8045-F7EAE713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2B8-BBB4-4C07-923C-11925C71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3D25-CEBE-4B59-8DE4-89E57B78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B7C-14EB-4287-AD47-97DCE912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BAA-59ED-4C13-9F47-6217F30C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1AB-2ED6-4FDB-A57F-5757EA6C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AEB-E23C-4E72-8672-2F3636DA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B28-3E8B-4304-8784-65AF3D28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590-6E21-42A5-B0C2-1C2B8201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0A56-6EEA-448F-9659-F9C081AF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FBAC-8CF2-4D14-BC5F-6CBC27B73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héma zkoušky tlakem 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mikrodestičk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3097080" cy="22971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3564000" y="1484280"/>
            <a:ext cx="5257800" cy="5113440"/>
            <a:chOff x="3564000" y="1484280"/>
            <a:chExt cx="5257800" cy="51134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564000" y="1484280"/>
              <a:ext cx="5257800" cy="51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259960" y="4501800"/>
              <a:ext cx="943560" cy="22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krodesti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č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23440" y="5172480"/>
              <a:ext cx="537120" cy="22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ěsně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01200" y="5388480"/>
              <a:ext cx="765720" cy="33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bjektiv mikrosko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85240" y="5783400"/>
              <a:ext cx="661680" cy="22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Čočk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21680" y="5160960"/>
              <a:ext cx="517680" cy="24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81120" y="5002920"/>
              <a:ext cx="354960" cy="3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k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818760" y="5082480"/>
              <a:ext cx="210960" cy="1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82160" y="3424320"/>
              <a:ext cx="987120" cy="251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silovač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66680" y="3944160"/>
              <a:ext cx="987120" cy="251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81080" y="2774160"/>
              <a:ext cx="986760" cy="489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Piezoelktrick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akční čl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05200" y="2936160"/>
              <a:ext cx="597600" cy="226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ržá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41840" y="2796840"/>
              <a:ext cx="796680" cy="226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krodesti</a:t>
              </a: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čk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66200" y="2554200"/>
              <a:ext cx="376200" cy="226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ň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148720" y="3320640"/>
              <a:ext cx="796680" cy="226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u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8320" y="4388040"/>
              <a:ext cx="943560" cy="22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20040" y="5154480"/>
              <a:ext cx="363240" cy="226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73680" y="5353200"/>
              <a:ext cx="943560" cy="226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krodesti</a:t>
              </a: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čk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33640" y="6201720"/>
              <a:ext cx="943560" cy="22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CD kame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7957800" y="443700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ň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3:54:42Z</dcterms:created>
  <dc:creator>umt</dc:creator>
  <dc:description/>
  <dc:language>en-US</dc:language>
  <cp:lastModifiedBy>umt</cp:lastModifiedBy>
  <dcterms:modified xsi:type="dcterms:W3CDTF">2007-01-08T13:57:06Z</dcterms:modified>
  <cp:revision>2</cp:revision>
  <dc:subject/>
  <dc:title>Snímek 1</dc:title>
</cp:coreProperties>
</file>