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76F-DF22-4A9C-9AA2-E924DC95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501-BB3C-40BD-9133-E832AE8D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9B6-51EC-4097-9C87-A2F41704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6F7-5D6C-405F-8322-6B588C97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933-9F47-4DAF-9FCB-B9FFE267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3FA-A137-4BC7-A61D-F581C79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444-65A8-400D-9F5A-214BDE9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046-FECE-48D1-829C-26C1766D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678-C70B-452A-8E01-33D326F4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A6B-83E4-4BB8-BF31-4CCB488B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ED9-ADBD-4C3C-9752-58857ACB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C27-5BF8-4F4A-911F-636871F6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E633-D5F4-4523-9D27-122D76C54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cká pinze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gnetic twee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9414" r="0" b="0"/>
          <a:stretch/>
        </p:blipFill>
        <p:spPr>
          <a:xfrm>
            <a:off x="1403280" y="1773360"/>
            <a:ext cx="5977080" cy="367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40160" y="1897200"/>
            <a:ext cx="129528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kušební kom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8640" y="4255920"/>
            <a:ext cx="1476360" cy="5702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leněná podlož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5:55:08Z</dcterms:created>
  <dc:creator>Jiri Bursa</dc:creator>
  <dc:description/>
  <dc:language>en-US</dc:language>
  <cp:lastModifiedBy>umt</cp:lastModifiedBy>
  <dcterms:modified xsi:type="dcterms:W3CDTF">2007-01-08T12:49:21Z</dcterms:modified>
  <cp:revision>2</cp:revision>
  <dc:subject/>
  <dc:title>Magnetická pinzeta (magnetic tweezer)</dc:title>
</cp:coreProperties>
</file>