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210-7FB7-4828-9217-472EC0B2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E86-1E94-42F5-8C76-622F60B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10E-9A64-4035-A9AE-CA517C95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0E1-E059-4DBD-9F12-96833C34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F6A-70E8-44FD-AB4A-A0906B67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5DF-C082-4F6F-8D56-8411326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1DC-3C3C-48E3-AC51-14C3C36A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FC8-C916-40CF-9CED-141D9B33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FC2-7659-43B9-89FC-DD89FB3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2F1-06FD-4906-AED1-AF6FC54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7F2-EAD1-49FE-BA73-8F65BD7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783-4B5F-47E7-A271-3EE0C708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FC3-BC42-4593-87C6-811AEDE1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39320"/>
            <a:ext cx="842472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 soustavy tvaru pravidelného pětiúhelníka se dvěma úhlopříčnými pruty nelze pouhou změnou  uspořádání prutů vytvořit tensegritní (staticky neurčitou) soustavu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dáním jednoho prutu vznikne staticky neurčitá soustava vykazující charakteristické vlastnosti tensegritní soustavy; přestože má pouze jedinou osu symetrie, změnou délky kteréhokoli  prutu vznikne v ní předpětí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47000" y="26028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ustava tvaru pě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68360" y="2637000"/>
            <a:ext cx="3738600" cy="351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681440" y="2637000"/>
            <a:ext cx="37782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0:04Z</dcterms:created>
  <dc:creator>Jiri Bursa</dc:creator>
  <dc:description/>
  <dc:language>en-US</dc:language>
  <cp:lastModifiedBy>Jiri Bursa</cp:lastModifiedBy>
  <dcterms:modified xsi:type="dcterms:W3CDTF">2006-12-28T12:21:29Z</dcterms:modified>
  <cp:revision>1</cp:revision>
  <dc:subject/>
  <dc:title>- U soustavy tvaru pravidelného pětiúhelníka se dvěma úhlopříčnými pruty nelze pouhou změnou  uspořádání prutů vytvořit tensegritní (staticky neurčitou) soustavu.  - Přidáním jednoho prutu vznikne staticky neurčitá soustava vykazující charakteristické vlastnosti tensegritní soustavy; přestože má pouze jedinou osu symetrie, změnou délky kteréhokoli  prutu vznikne v ní předpětí. </dc:title>
</cp:coreProperties>
</file>