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DF4-8A23-4B35-A800-D5820C81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A7A-DE97-49AA-AD61-013739B1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944-AE1A-4A6C-8FD7-9DA86850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FD7-FF8C-4DB4-9603-5E298CD3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790-F9EC-42D1-B551-818C025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8B9-7D6C-4750-B437-6737E20D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9DF-225E-43B7-8510-F367C85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262-4AD4-4360-A95A-20A9CC2A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746-1DAD-4348-8994-55961D9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801-C574-4177-9A2F-4225793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D6A-9FFC-4167-8FBE-1DF783B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BBA-B885-4FD2-8843-D0711A1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628-9EF0-40F2-86AD-818346B15AA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599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chéma uspořádání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aktinových a myozinových filament v hladké svalové buňce kontraktilního fenotypu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(podle Histology,Ross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32720" y="429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ns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37339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412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9480" y="323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3068640"/>
            <a:ext cx="1447920" cy="94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á filamenta (myozin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67560" y="2081160"/>
            <a:ext cx="13269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ká filamenta (akt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41360"/>
            <a:ext cx="8001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funkce hladkých svalových buně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aktilní fenotyp - svalová kontrak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etický fenotyp - syntéza bílkovin pro remodelaci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1:40:46Z</dcterms:created>
  <dc:creator>Jiří Burša</dc:creator>
  <dc:description/>
  <dc:language>en-US</dc:language>
  <cp:lastModifiedBy>umt</cp:lastModifiedBy>
  <dcterms:modified xsi:type="dcterms:W3CDTF">2007-01-08T13:00:46Z</dcterms:modified>
  <cp:revision>4</cp:revision>
  <dc:subject/>
  <dc:title>Schéma uspořádání aktinových a myozinových filament v hladké svalové buňce  (podle Histology,Ross) </dc:title>
</cp:coreProperties>
</file>