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A198-C52C-45F1-AF82-34308F17B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E656-B690-45BC-A38E-ABC589618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27EE-0976-4DEC-921B-0BFA4E92A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40ED-0961-4E80-8F35-ACD766E5D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5F1A-B927-4FCE-922D-D9EBD750A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F18C-3AA1-414A-B767-787E849C4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8676-288C-4CA7-898A-73C5FA378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543F-5582-474F-AFF0-516EF4C38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26F3-C068-4645-96EE-70C1D4697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7603-27ED-4382-8724-7FF8090CF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55E2-CAB0-4DAE-A280-0AB7F4571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53EB-8370-48BA-A97F-59B301948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85A8F-AABA-40B4-B7E8-362442B41A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48528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Times New Roman"/>
              </a:rPr>
              <a:t>Porovnání výsledků vtlačovací zkoušky s MKP simulací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Experimentální křivky (plné černé čáry) v porovnání se simulací s hrotem umístěným na centrálním membránovém receptoru (modrá čárkovaná čára), mimo receptor (červená tečkovaná čára dolní) a na bočním receptoru (červená tečkovaná čára horní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116000" y="1700280"/>
            <a:ext cx="7128000" cy="3960720"/>
            <a:chOff x="1116000" y="1700280"/>
            <a:chExt cx="7128000" cy="396072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1116000" y="1700280"/>
              <a:ext cx="7128000" cy="3960720"/>
            </a:xfrm>
            <a:prstGeom prst="rect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</p:pic>
        <p:sp>
          <p:nvSpPr>
            <p:cNvPr id="44" name=""/>
            <p:cNvSpPr/>
            <p:nvPr/>
          </p:nvSpPr>
          <p:spPr>
            <a:xfrm>
              <a:off x="2264400" y="1997640"/>
              <a:ext cx="5428440" cy="2944800"/>
            </a:xfrm>
            <a:custGeom>
              <a:avLst/>
              <a:gdLst/>
              <a:ahLst/>
              <a:rect l="l" t="t" r="r" b="b"/>
              <a:pathLst>
                <a:path w="5400" h="3600">
                  <a:moveTo>
                    <a:pt x="0" y="3600"/>
                  </a:moveTo>
                  <a:cubicBezTo>
                    <a:pt x="450" y="3450"/>
                    <a:pt x="900" y="3300"/>
                    <a:pt x="1800" y="2700"/>
                  </a:cubicBezTo>
                  <a:cubicBezTo>
                    <a:pt x="2700" y="2100"/>
                    <a:pt x="4800" y="420"/>
                    <a:pt x="5400" y="0"/>
                  </a:cubicBezTo>
                </a:path>
              </a:pathLst>
            </a:custGeom>
            <a:noFill/>
            <a:ln w="57240">
              <a:solidFill>
                <a:srgbClr val="00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360160" y="3634200"/>
              <a:ext cx="5332680" cy="1338840"/>
            </a:xfrm>
            <a:custGeom>
              <a:avLst/>
              <a:gdLst/>
              <a:ahLst/>
              <a:rect l="l" t="t" r="r" b="b"/>
              <a:pathLst>
                <a:path w="5400" h="1620">
                  <a:moveTo>
                    <a:pt x="0" y="1620"/>
                  </a:moveTo>
                  <a:cubicBezTo>
                    <a:pt x="900" y="1395"/>
                    <a:pt x="1800" y="1170"/>
                    <a:pt x="2700" y="900"/>
                  </a:cubicBezTo>
                  <a:cubicBezTo>
                    <a:pt x="3600" y="630"/>
                    <a:pt x="4920" y="30"/>
                    <a:pt x="540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338200" y="1700280"/>
              <a:ext cx="1976760" cy="3316680"/>
            </a:xfrm>
            <a:custGeom>
              <a:avLst/>
              <a:gdLst/>
              <a:ahLst/>
              <a:rect l="l" t="t" r="r" b="b"/>
              <a:pathLst>
                <a:path w="1800" h="3870">
                  <a:moveTo>
                    <a:pt x="0" y="3780"/>
                  </a:moveTo>
                  <a:cubicBezTo>
                    <a:pt x="390" y="3825"/>
                    <a:pt x="780" y="3870"/>
                    <a:pt x="1080" y="3240"/>
                  </a:cubicBezTo>
                  <a:cubicBezTo>
                    <a:pt x="1380" y="2610"/>
                    <a:pt x="1680" y="510"/>
                    <a:pt x="180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539640" y="5661000"/>
            <a:ext cx="81327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Experimenty podle: Miyazaki et al. (2002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): Tensile properties and local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tiffness of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80000" y="5372280"/>
            <a:ext cx="244764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loubka vtlačení [μm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 rot="10800000">
            <a:off x="1316520" y="2707920"/>
            <a:ext cx="446040" cy="13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íla [nN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4T13:41:35Z</dcterms:created>
  <dc:creator>Jiří Burša</dc:creator>
  <dc:description/>
  <dc:language>en-US</dc:language>
  <cp:lastModifiedBy>Jiří Burša</cp:lastModifiedBy>
  <dcterms:modified xsi:type="dcterms:W3CDTF">2007-01-04T13:55:08Z</dcterms:modified>
  <cp:revision>7</cp:revision>
  <dc:subject/>
  <dc:title>Experimental curves (solid black lines) compared with simulations with the tip located at central membrane receptor (blue dashed line) or outside this receptor (red dotted lines)</dc:title>
</cp:coreProperties>
</file>