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AD84-8609-48DB-A350-FF232DB5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DB1-DB53-4C60-AAD1-156BE67D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2013-0F91-4C5F-BB5A-B16AC255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1484-8880-4907-8714-CE0037DB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E7E-B37B-4BE8-8AEC-B1290780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809F-3464-46C1-B526-423BC88E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14C3-7FE3-41DC-B83B-2CA91B5F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C08-8EF1-4FE0-A5DF-7984B988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54DF-C8BD-43FF-8F76-B9C71EE2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178F-C41C-47DE-B084-951C0448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20B0-2132-4CCA-815B-872FC0C1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5ED1-2529-43B0-9774-886CCC9F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FDF5-E232-4B20-89F4-070CB3B3896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Schéma zonuly occludens (tight junction)</a:t>
            </a:r>
            <a:br>
              <a:rPr sz="3600"/>
            </a:b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- spojení bez štěrbiny mezi oběma membrá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848360" cy="439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60360" y="1844640"/>
            <a:ext cx="2016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něčné membrá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2300400"/>
            <a:ext cx="2232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extracelulární pro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0720" y="5516640"/>
            <a:ext cx="15825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ytoplasmická část occlu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56360" y="5516640"/>
            <a:ext cx="194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transmembránová část occlu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5080" y="5516640"/>
            <a:ext cx="15825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extracelulární část occlu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480" y="4681440"/>
            <a:ext cx="93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cclud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67640" y="3933720"/>
            <a:ext cx="71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k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8:54:35Z</dcterms:created>
  <dc:creator>Jiri Bursa</dc:creator>
  <dc:description/>
  <dc:language>en-US</dc:language>
  <cp:lastModifiedBy>Jiri Bursa</cp:lastModifiedBy>
  <dcterms:modified xsi:type="dcterms:W3CDTF">2006-12-27T12:32:07Z</dcterms:modified>
  <cp:revision>5</cp:revision>
  <dc:subject/>
  <dc:title>Schéma spojení gap junction  Spojení zajišťující transport iontů, aminokyselin, sacharidů a jiných rozpuštěných látek mezi buňkami</dc:title>
</cp:coreProperties>
</file>