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457-3E49-402C-8717-3219A6F1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DF3-DFAB-4F05-816C-56ED0D6E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847-22CF-4B49-B230-C249B020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ADC-E31C-4B7F-95A3-8B0982F6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19D-0324-4C9F-B114-014C9F1C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FFB-A6AD-4AE0-8D3A-72C66B93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FE3-2CC6-43EB-91D7-7392DC4E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65D-FA34-4636-8538-F78F8BFC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93E-D666-4DE2-A455-AB9E2880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0A4-2C09-448C-94AF-2BC33127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A0D1-B510-4C1C-A857-3964B9BB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164-CFC7-4354-B4FD-160B7D6E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F5A0-8597-4F99-B7E8-EFC68235D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Arial"/>
              </a:rPr>
              <a:t>Molekulární struktura kolagenových fibril 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(podle Biochemie, Vo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840720" cy="431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24000" y="1940040"/>
            <a:ext cx="79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r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2637000"/>
            <a:ext cx="122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pořádání molek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29797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ázdná zó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2952720"/>
            <a:ext cx="151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óna překry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43120" y="462276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ojitá šroubo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65320" y="3730680"/>
            <a:ext cx="1081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lekula kolag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90680" y="5950080"/>
            <a:ext cx="1871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ypická sekv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2:52:48Z</dcterms:created>
  <dc:creator>Jiri Bursa</dc:creator>
  <dc:description/>
  <dc:language>en-US</dc:language>
  <cp:lastModifiedBy>Jiri Bursa</cp:lastModifiedBy>
  <dcterms:modified xsi:type="dcterms:W3CDTF">2006-12-27T13:04:48Z</dcterms:modified>
  <cp:revision>4</cp:revision>
  <dc:subject/>
  <dc:title>Mollecular structure of collagen fibril (from Biochemie, Voet)</dc:title>
</cp:coreProperties>
</file>