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7C6-EE9D-4780-9C0F-E075A58A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C05-7284-42F6-806A-A4DF7E74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D77-1F5E-49D2-B721-2D420876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00D-D822-40E4-BA0D-172D5109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9EF-A6B9-4B08-A26D-E4C2C880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430-13DA-48E5-BCC4-BFA129B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1F4-7BD2-4F59-9628-36A787F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14A-9CDA-4CCE-82C7-08E6490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A84-8FB4-4CDB-9A4F-9BEC453E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67E-FE8A-4207-905A-9D69951F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B9E-D055-4F88-914D-141BF9A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61A-3CD8-4872-89CC-C6EB617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736-DE38-4CEA-99D3-4B9837F1AC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ymezen&#237;.ppt" TargetMode="External"/><Relationship Id="rId2" Type="http://schemas.openxmlformats.org/officeDocument/2006/relationships/hyperlink" Target="file:///Medic&#237;nsk&#233;_z&#225;klady.ppt" TargetMode="External"/><Relationship Id="rId3" Type="http://schemas.openxmlformats.org/officeDocument/2006/relationships/hyperlink" Target="file:///Anatomie_srdce_c&#233;vy.ppt" TargetMode="External"/><Relationship Id="rId4" Type="http://schemas.openxmlformats.org/officeDocument/2006/relationships/hyperlink" Target="file:///Fyziologie.ppt" TargetMode="External"/><Relationship Id="rId5" Type="http://schemas.openxmlformats.org/officeDocument/2006/relationships/hyperlink" Target="file:///Krev-vlastnosti.ppt" TargetMode="External"/><Relationship Id="rId6" Type="http://schemas.openxmlformats.org/officeDocument/2006/relationships/hyperlink" Target="file:///Histologie.ppt" TargetMode="External"/><Relationship Id="rId7" Type="http://schemas.openxmlformats.org/officeDocument/2006/relationships/hyperlink" Target="file:///Tepny_vlastnosti.pp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III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Biomechanika srdečně-cév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Times New Roman"/>
              </a:rPr>
              <a:t>Opory jsou určeny především pro přednášky předmětu Biomechanika III (Biomechanika srdečně-cévní soustavy), ale i pro další zájemce o příslušnou problematiku, např. jako úvod do studia předmětu doktorandského studia Mechanika biologických tk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Osnova předmětu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ymezení kardiovaskulární soustav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dicíns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nformace z jej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natom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yziolog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ložení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v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jejich význam pro biomecha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istologické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inform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o struktuře a složení cévní a srdeč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kkých tk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évní stěny) a jejich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itutivní_modely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ka buň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cké změ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používané zákrok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 implantá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cévní soust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náhrada sr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počtové model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chanického chování cév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ázky k zá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truktura a náplň základních lékařských obor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terosklerotické změny 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ory-struktura"/>
          <p:cNvPicPr/>
          <p:nvPr/>
        </p:nvPicPr>
        <p:blipFill>
          <a:blip r:embed="rId1"/>
          <a:stretch/>
        </p:blipFill>
        <p:spPr>
          <a:xfrm>
            <a:off x="3492360" y="260280"/>
            <a:ext cx="532764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561960"/>
            <a:ext cx="3035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robná struktura lékařských obor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Literatura používaná pro předmět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. Academia Praha,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 srdečně cévního systému. ČVUT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řen J., Rosenberg J., Janíček P.: Biomechanika, ZČU, Plzeň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ung: Biomechanics; Mechanical Properties of Living Tissues. Springer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umphrey J.D.: Cardiovascular Solid Mechanics; Cells, Tissues and Organs. Springer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er, Simmons: Introductory Biomechanics. Cambridge University Press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eška Vladislav: Aneuryzma břišní aorty, Grada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minik Jan: Kardiochirurgie. Grada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artoš Jiří: Komplikace a reoperace po rekonstrukčních cévních operacích. Grada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jáček J.: Koronární stenty. Grada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ajíček M., Peregrin J.H., Roček M., Šebesta P. a kol.  Chirurgická a intervenční léčba cévních onemocnění. Grada,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Tomáš Návrat</cp:lastModifiedBy>
  <dcterms:modified xsi:type="dcterms:W3CDTF">2013-04-25T15:29:35Z</dcterms:modified>
  <cp:revision>246</cp:revision>
  <dc:subject/>
  <dc:title>Biomechanics  of smooth muscle cells </dc:title>
</cp:coreProperties>
</file>