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EDA-3F50-4017-A1E9-F22C085F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101-3B2D-476E-BCD2-6A2AE465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16F-C74B-46BF-9C10-0329E1A1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BBC-C9C4-48D1-ADB7-B1A3070D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CED-1BCA-4CC5-8644-B7FE8B7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9A9-9905-474F-9C2A-34C8C1F8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24E-FAD3-4052-9E90-569625D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0D8-4150-4871-9DCA-FD3DA197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A4A-0C8D-4507-A42D-72438340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B4C-5370-4838-A232-26D38283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337-B2BD-429A-9ECB-136F7B58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0E0-920B-4E2C-8FD8-9BA63916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9E94-8819-491A-AC07-02BFAA56C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zkou&#353;ka_tahem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strukturní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Lze použít pro modelování libovolné mechanické zkoušky buňky například </a:t>
            </a:r>
            <a:r>
              <a:rPr b="0" lang="cs-CZ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koušky tahem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. Jeho nevýhodou je, že je příliš zjednodušený a není schopen zohlednit namáhání jednotlivých strukturních komponent buňky, takže není použitelný pro vyšetřování principu mechanotransduk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6:10:13Z</dcterms:created>
  <dc:creator>Jiri Bursa</dc:creator>
  <dc:description/>
  <dc:language>en-US</dc:language>
  <cp:lastModifiedBy>umt</cp:lastModifiedBy>
  <dcterms:modified xsi:type="dcterms:W3CDTF">2007-01-08T12:57:37Z</dcterms:modified>
  <cp:revision>3</cp:revision>
  <dc:subject/>
  <dc:title>Snímek 1</dc:title>
</cp:coreProperties>
</file>