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0A0-0CCF-4B7B-9F53-3473F68D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FC8-8A6B-4919-A6DC-922E0C39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13D-D1D6-4497-9E13-8C75E975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FD4-647D-473B-88FE-36C70DC4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44D-D2BA-49D0-9398-E9262715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B7D-3994-42B3-B2B4-962950AB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5F0-3592-48B1-BE08-90F4FF2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FDE-90FE-4F80-8BDA-945D9A0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52D-0946-4F07-A1CF-27C2C18F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10E-329C-4D99-B714-A602A7B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14D-9253-41F4-A5A0-FCA25BF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4B5-594B-433D-B1AE-586FDB9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D2A-3B23-4FD3-8B79-34220564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hemidesmozomu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membránové spojení mezi intermediálními filamenty a extracelulárními kolagen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6120" y="16002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29520" y="2992320"/>
            <a:ext cx="122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206064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263196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racelulární 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446076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tvicí 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2:23Z</dcterms:created>
  <dc:creator>Jiri Bursa</dc:creator>
  <dc:description/>
  <dc:language>en-US</dc:language>
  <cp:lastModifiedBy>Jiri Bursa</cp:lastModifiedBy>
  <dcterms:modified xsi:type="dcterms:W3CDTF">2006-12-27T12:51:12Z</dcterms:modified>
  <cp:revision>4</cp:revision>
  <dc:subject/>
  <dc:title>Scheme of hemidesmosome – i.e. transmembrane connection between intermediate filaments and extracellular collagen fibres</dc:title>
</cp:coreProperties>
</file>