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41B-7297-471E-8B9E-BCC8FF29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BA0-63AD-4E58-A42D-8E8150CB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BB6-475C-455D-90FF-29D5CBEC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24E-BA14-4CF3-BE4D-2A7CD9EF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5BE-ABD2-4634-8D9D-3E78E487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C7E-3E2F-40F7-95F9-A89CFFE5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B7C-CD80-4EF5-B899-BCEE037A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F91-5FD1-41C7-9119-6F5B2346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18D-7780-4B0D-844D-8C57A8C4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76D-8226-4573-B2A4-9FFB5DD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560-BD5C-41DB-B2C7-20BE2FEB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87F-6972-4A0D-B39F-EE8E4FA6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2E63-48CB-4059-9A54-2DA116F61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exus (spojení gap junction) - schéma 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pojení zajišťující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ransport iontů, aminokyselin, sacharidů a jiných rozpuštěných látek mezi buň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98760" y="2071800"/>
            <a:ext cx="609912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1989000"/>
            <a:ext cx="216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28764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á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345276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onnex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402912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zavř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494172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evř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446076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onnex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6405480"/>
            <a:ext cx="223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imobuněčný pro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7-01-07T10:46:04Z</dcterms:modified>
  <cp:revision>4</cp:revision>
  <dc:subject/>
  <dc:title>Schéma spojení gap junction  Spojení zajišťující transport iontů, aminokyselin, sacharidů a jiných rozpuštěných látek mezi buňkami</dc:title>
</cp:coreProperties>
</file>