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497-72F0-410D-9FD1-CD8FA8B1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6E2-2176-4068-AC99-9875ACF1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98-5CD4-4FEA-9F97-A1EDCAB7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280-8FF2-4C03-B04B-E9DBF957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E4D-5FBF-4232-9B6C-8926D426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034-66C1-443C-8AFA-DD74E58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53B-009E-4710-89C2-9AA8344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AE2-C3C7-4441-9578-DE49C281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263-21D2-4E11-91D8-9FE3824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BD9-E73A-4464-A717-D78DC1C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3E9-15A7-4160-A53F-91BCD72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64C-B11A-420E-809F-9AE77E5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1B3-218B-49D9-9B36-B207AE81B4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adherens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– méně pevné  spojení se širokou štěrbinou mezi oběma membránami, založené na iontové vaz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89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414972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4676760"/>
            <a:ext cx="12236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1800" y="1579680"/>
            <a:ext cx="201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17:54Z</dcterms:created>
  <dc:creator>Jiri Bursa</dc:creator>
  <dc:description/>
  <dc:language>en-US</dc:language>
  <cp:lastModifiedBy>Jiri Bursa</cp:lastModifiedBy>
  <dcterms:modified xsi:type="dcterms:W3CDTF">2006-12-27T12:37:44Z</dcterms:modified>
  <cp:revision>2</cp:revision>
  <dc:subject/>
  <dc:title>Scheme of anchoring junction  – less cohesive connection with a wide gap between both membranes, based on ion cohesion</dc:title>
</cp:coreProperties>
</file>