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B66-F359-4E08-A362-39321346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A8D-863B-4A5A-A42B-749F128B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CD0-1F6B-4E6D-B240-CC022E94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E20-7F7E-4757-92B5-44B9ECE2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74C-8EA2-48D5-B3D4-7AFA3087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500-6F04-468F-AAF4-953EC5A7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67C-B7B7-48F5-9AB3-B3AA6A3C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ECB-7F4D-48FA-B2AE-47546930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57E-5E3A-4DEB-99D0-13D8EDD4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7ED-0281-4B1F-A1AA-C0EB93A4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781-3D1F-4B1E-8308-187A97C6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C7F-E95D-4C02-B834-84D6569F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9EBD-1DA8-40E0-8CAE-EDD1B65224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11320"/>
            <a:ext cx="842472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soustavy ve tvaru pravidelného osmiúhelníka s pěti úhlopříčnými pruty (staticky určité) zvýší jiné uspořádání prutů (vpravo) úroveň symetrie, ale nevede k vytvoření tensegritní struk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op007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685800" y="2924280"/>
            <a:ext cx="3882960" cy="347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op009"/>
          <p:cNvPicPr/>
          <p:nvPr/>
        </p:nvPicPr>
        <p:blipFill>
          <a:blip r:embed="rId2"/>
          <a:srcRect l="17546" t="9332" r="17546" b="9332"/>
          <a:stretch/>
        </p:blipFill>
        <p:spPr>
          <a:xfrm>
            <a:off x="4788000" y="2852640"/>
            <a:ext cx="3768480" cy="3546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95280" y="333360"/>
            <a:ext cx="84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Soustava tvaru osmiúhelní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Arial"/>
              </a:rPr>
              <a:t>Soustava tvaru osmiúhelníka</a:t>
            </a: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pop019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685800" y="2797200"/>
            <a:ext cx="3809880" cy="3584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pop020"/>
          <p:cNvPicPr/>
          <p:nvPr/>
        </p:nvPicPr>
        <p:blipFill>
          <a:blip r:embed="rId2"/>
          <a:srcRect l="17546" t="9332" r="17546" b="9332"/>
          <a:stretch/>
        </p:blipFill>
        <p:spPr>
          <a:xfrm>
            <a:off x="4788000" y="2798640"/>
            <a:ext cx="3800520" cy="3583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611280" y="907920"/>
            <a:ext cx="82818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segritní soustavu lze vytvořit dvěma následujícími způsoby: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  přidáním dalšího prutu a jejich uspořádáním do tvaru se čtyřmi osami symetrie (vlevo)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odebráním jednoho prutu a přeuspořádáním zbylých úhlopříčných prutů do tvaru hvězdy (vpravo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Arial"/>
              </a:rPr>
              <a:t>Soustava tvaru osmiúhelníka</a:t>
            </a: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66560" y="1413000"/>
            <a:ext cx="3313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stavu s tensegritními vlastnostmi lze vytvořit také vložením dvou vzájemně pootočených čtverců do pravidelného osmiúhelníka; tyto dva čtverce tvořené vzpěrami jsou vzájemně spojeny pouze prostřednictvím lan, což je jedním ze základních rysů tensegritních sousta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op012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3924360" y="1413000"/>
            <a:ext cx="4537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2:23:29Z</dcterms:created>
  <dc:creator>Jiri Bursa</dc:creator>
  <dc:description/>
  <dc:language>en-US</dc:language>
  <cp:lastModifiedBy>Jiří Burša</cp:lastModifiedBy>
  <dcterms:modified xsi:type="dcterms:W3CDTF">2012-03-27T13:18:08Z</dcterms:modified>
  <cp:revision>7</cp:revision>
  <dc:subject/>
  <dc:title>In a regular octagonal structure, another arrangement of struts shown in the right figure enhances the degree of symmetry of the structure without adding any more one strut; however, the structure does not show all the features of tensegrity structures. </dc:title>
</cp:coreProperties>
</file>