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02E0-BA5F-494B-8A89-7734C99D4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C866-0360-41FC-A6C9-051C63BE2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9444-42C0-4510-803B-0BFBFB281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B61B-CCE8-4D38-83CF-44EB53F43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B85A-AC07-404F-8DB1-D61AF744C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CFC4-4CC4-4EB8-B1A4-399990E3E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6CA6-F872-4B2A-BA19-26449692E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22E7-D028-485B-9DFE-908901B6C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03DB-F453-47E3-93FF-17C9D0818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099F-3905-4058-80B7-9E7440EDE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6BD4-4069-4778-ACBC-BCB0BD96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B743-D643-49CE-87DF-4995AD132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85761-11F2-4B72-A149-D26387A2B3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5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Magnetic  twisting cytome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468360" y="1557360"/>
            <a:ext cx="4536720" cy="3023640"/>
            <a:chOff x="468360" y="1557360"/>
            <a:chExt cx="4536720" cy="302364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625320" y="1683360"/>
              <a:ext cx="3850920" cy="28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608040" y="1743480"/>
              <a:ext cx="560160" cy="67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073600" y="4128480"/>
              <a:ext cx="1680480" cy="45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osu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881440" y="1557360"/>
              <a:ext cx="1397160" cy="45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atočení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510360" y="2036160"/>
              <a:ext cx="1494720" cy="1056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gnetické po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360" y="3820320"/>
              <a:ext cx="1074960" cy="45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uňk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84000" y="1577880"/>
              <a:ext cx="1311840" cy="679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gnetická kuličk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91840" y="2207160"/>
              <a:ext cx="560160" cy="33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643280" y="2763720"/>
            <a:ext cx="3878280" cy="2826000"/>
            <a:chOff x="4643280" y="2763720"/>
            <a:chExt cx="3878280" cy="2826000"/>
          </a:xfrm>
        </p:grpSpPr>
        <p:pic>
          <p:nvPicPr>
            <p:cNvPr id="52" name="" descr=""/>
            <p:cNvPicPr/>
            <p:nvPr/>
          </p:nvPicPr>
          <p:blipFill>
            <a:blip r:embed="rId2"/>
            <a:stretch/>
          </p:blipFill>
          <p:spPr>
            <a:xfrm>
              <a:off x="4750200" y="2763720"/>
              <a:ext cx="3771360" cy="26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4643280" y="4925160"/>
              <a:ext cx="530280" cy="66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31600" y="3141360"/>
              <a:ext cx="1411560" cy="2966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gnetická kuličk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740120" y="3108240"/>
              <a:ext cx="797760" cy="29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</a:rPr>
                <a:t>Fibronekt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670640" y="3709080"/>
              <a:ext cx="796320" cy="426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mbrá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816800" y="4256640"/>
              <a:ext cx="554040" cy="29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tegr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270760" y="4833720"/>
              <a:ext cx="387000" cy="29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</a:rPr>
                <a:t>Akt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408360" y="5139000"/>
              <a:ext cx="1237680" cy="29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ytoskel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5219640" y="1486080"/>
            <a:ext cx="36100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3399"/>
                </a:solidFill>
                <a:latin typeface="Times New Roman"/>
              </a:rPr>
              <a:t>Uchycení kuličky k integrinovým receptorům na povrchu buňky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7T15:55:08Z</dcterms:created>
  <dc:creator>Jiri Bursa</dc:creator>
  <dc:description/>
  <dc:language>en-US</dc:language>
  <cp:lastModifiedBy>Jiří Burša</cp:lastModifiedBy>
  <dcterms:modified xsi:type="dcterms:W3CDTF">2009-03-31T13:12:48Z</dcterms:modified>
  <cp:revision>5</cp:revision>
  <dc:subject/>
  <dc:title>Magnetická pinzeta (magnetic tweezer)</dc:title>
</cp:coreProperties>
</file>