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423-8CF4-4499-AEE6-DF72C424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C31-DBBE-4A33-AC2D-00464B2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C41-912B-454D-9740-3CE6CCED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48F-38C9-4643-9A1C-FCA0D135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2B1-527E-4F66-A6A8-B92706A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3AA-6A2F-4B40-A5BA-DED7FD88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149-290D-4737-BFA8-C17C641B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F3A-B46C-40C8-A8B5-081773D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F79-DAF0-4C9D-B97D-735D4AE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8FF-C1EE-4FBA-8707-A03B579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8F0-4AD8-4C3A-A025-B18EEC9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4B1-624C-48CA-992C-0E7D24A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606-B91D-4D34-9E3A-802E6638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spojení „focal adhesion“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transmembránové spojení mezi aktinovými filamenty a extracelulár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1672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343480"/>
            <a:ext cx="115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1124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6:16Z</dcterms:created>
  <dc:creator>Jiri Bursa</dc:creator>
  <dc:description/>
  <dc:language>en-US</dc:language>
  <cp:lastModifiedBy>Jiri Bursa</cp:lastModifiedBy>
  <dcterms:modified xsi:type="dcterms:W3CDTF">2006-12-27T12:44:46Z</dcterms:modified>
  <cp:revision>2</cp:revision>
  <dc:subject/>
  <dc:title>Schéma spojení „focal adhesion“  -transmembránové spojení mezi aktinovými filamenty a extracelulárními vlákny</dc:title>
</cp:coreProperties>
</file>