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B70E-01FC-417D-BB96-B58661EADD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druhý případ komplexního modelu. Cytoskelet je modelován tensegritní strukturou, a ostatní složky buňky jsou modelovány jako k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AA8-B53D-4A8E-9F35-EEE882EE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E09-AC65-4350-BE4A-1810AD62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CEAE-6FF1-45B7-B6CA-BC30FDB1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D68-0330-431E-8EAD-EEF623B5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A91-03A6-4D93-A46A-906AC716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4FD-B400-48A2-A581-A90719AE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28E-4D48-4474-8AD6-C23AB75D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A0E-64C6-44D6-82CC-DEE6377D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9AB-6D71-4E0F-9C75-75F0AD68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0F6-61C7-4673-8D44-DDDC55B2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BB5-2411-49F3-B552-B5D48958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11C8-89CC-4B8F-BC72-E5D47C36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F1EA-B109-465C-9B0D-342B4CF1F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Příklad komplexního strukturního mode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J. McGarry G., Prendergast P.J., A three-dimensional finite element model of an      adherent eukaryotic cell, European cells and</a:t>
            </a:r>
            <a:r>
              <a:rPr b="1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áles,27-34,2004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Komplexní výpočtový model buň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zentovaný komplexní strukturní model buňky je tvořen těmito prv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Bunečná membrána (sarkolemma) a membránový skelet – modelovány pomocí skořepinových pr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cy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l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elována pomocí 3D solid prvků jako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mi poddajné k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ádro a přilehlé organel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elová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í 3D solid prvků jako mén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ddajné kontinu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cytoplasma vyztužená tensegritní soustavou, reprezentující tzv. jaderný skel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luboký cytoskelet - modelovaný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segritní soustav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reprezentující síť mikrotubulů a mikrofil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4:24:39Z</dcterms:created>
  <dc:creator>Jiří Burša</dc:creator>
  <dc:description/>
  <dc:language>en-US</dc:language>
  <cp:lastModifiedBy>Jiří Burša</cp:lastModifiedBy>
  <dcterms:modified xsi:type="dcterms:W3CDTF">2007-01-04T14:32:39Z</dcterms:modified>
  <cp:revision>4</cp:revision>
  <dc:subject/>
  <dc:title>Snímek 1</dc:title>
</cp:coreProperties>
</file>