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B2F-6C77-40B2-947F-196215AB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695-0951-4518-8EF7-B677603C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2FA-E22B-469D-9AFD-E08A41BB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801-DD11-473E-860D-2A16D8BE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569-5881-4033-9635-C8D56D36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3B6-1713-495A-9104-AC6A8BE5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4994-78A7-4226-94AC-19EABB2A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BE4-62D6-44DF-AF1E-AA4A577C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875-4AC8-4CA6-9D28-2FF760FD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72A-101E-48F9-AA3D-7AEE8BDF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F4B-EDDF-4721-85D0-DB55ECF2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BA2-6B40-4818-B198-FF4E2AAA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85FD-5B62-42BA-A705-70B8E422688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Histologie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Nejpodstatnější mechanické vlastnosti krve a cévní stěny ovlivňující krevní obě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newtonská kapalin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neřídí se Newtonovým zákonem viskoz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rážlivost (tvorba tromb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emolýza (poškozování krevních tělís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stacionární proudění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dlišné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dobnostní kriteri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ktivní chování stěny – proměnný průtočný od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měnná geometrie stěny v důsledku zatížení a velkých deform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ožení krv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množství v těle 5-6 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evní plazma –koloidní suspenze bílko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revní tělí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Červené krvinky (erytrocyty) – tvar bikonkávního disku o průměru 8 </a:t>
            </a:r>
            <a:r>
              <a:rPr b="0" lang="cs-CZ" sz="1800" spc="-1" strike="noStrike">
                <a:solidFill>
                  <a:srgbClr val="000000"/>
                </a:solidFill>
                <a:latin typeface="UniversalMath1 BT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, množství cca 5.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m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ílé krvinky (leukocyty) – kulový tvar, průměr 10-15 </a:t>
            </a:r>
            <a:r>
              <a:rPr b="0" lang="cs-CZ" sz="1800" spc="-1" strike="noStrike">
                <a:solidFill>
                  <a:srgbClr val="000000"/>
                </a:solidFill>
                <a:latin typeface="UniversalMath1 BT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m, počet cca 6.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m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evní destičky (trombocyty) – tyčinkovitý tvar velikost 2 – 4 </a:t>
            </a:r>
            <a:r>
              <a:rPr b="0" lang="cs-CZ" sz="1800" spc="-1" strike="noStrike">
                <a:solidFill>
                  <a:srgbClr val="000000"/>
                </a:solidFill>
                <a:latin typeface="UniversalMath1 BT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, počet řádu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m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4640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Odlišnost rychlostního profilu krve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oproti newtonské kapali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Zástupný symbol pro obsah 3" descr="Profil-laminarni.JPG"/>
          <p:cNvPicPr/>
          <p:nvPr/>
        </p:nvPicPr>
        <p:blipFill>
          <a:blip r:embed="rId1"/>
          <a:stretch/>
        </p:blipFill>
        <p:spPr>
          <a:xfrm>
            <a:off x="250920" y="1285920"/>
            <a:ext cx="6429240" cy="5072040"/>
          </a:xfrm>
          <a:prstGeom prst="rect">
            <a:avLst/>
          </a:prstGeom>
          <a:ln w="0">
            <a:noFill/>
          </a:ln>
        </p:spPr>
      </p:pic>
      <p:pic>
        <p:nvPicPr>
          <p:cNvPr id="89" name="Obrázek 4" descr="Profil-krev.JPG"/>
          <p:cNvPicPr/>
          <p:nvPr/>
        </p:nvPicPr>
        <p:blipFill>
          <a:blip r:embed="rId2"/>
          <a:stretch/>
        </p:blipFill>
        <p:spPr>
          <a:xfrm>
            <a:off x="6323040" y="2571840"/>
            <a:ext cx="23526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418608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Ovlivnění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rychlostního profilu částicemi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rozptýlenými v kapalin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Zástupný symbol pro obsah 6" descr="Krev_rychlostní_profil.JPG"/>
          <p:cNvPicPr/>
          <p:nvPr/>
        </p:nvPicPr>
        <p:blipFill>
          <a:blip r:embed="rId1"/>
          <a:stretch/>
        </p:blipFill>
        <p:spPr>
          <a:xfrm>
            <a:off x="4960800" y="236520"/>
            <a:ext cx="37544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Fahraeusův-Lindquistův ef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71360"/>
            <a:ext cx="83296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ůsledkem nenewtonských vlastností krve. Modifikací rychlostního profilu dochází ke koncentraci erytrocytů v centrální části trubice a snižování hematokritu v blízkosti stěny. Proto je v malých odbočkách hematokrit nižší než v mateřské tepně – znatelně se projevuje u tepen s průměr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,5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ástupný symbol pro obsah 3"/>
          <p:cNvSpPr/>
          <p:nvPr/>
        </p:nvSpPr>
        <p:spPr>
          <a:xfrm>
            <a:off x="285840" y="2500200"/>
            <a:ext cx="235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vislost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ánlivé viskozity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průměru tepn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5" name="Obrázek 5" descr="viskozita_zdánlivá.JPG"/>
          <p:cNvPicPr/>
          <p:nvPr/>
        </p:nvPicPr>
        <p:blipFill>
          <a:blip r:embed="rId1"/>
          <a:stretch/>
        </p:blipFill>
        <p:spPr>
          <a:xfrm>
            <a:off x="2374920" y="2395440"/>
            <a:ext cx="63403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Fahraeusův-Lindquistův ef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6" descr="hematokrit.JPG"/>
          <p:cNvPicPr/>
          <p:nvPr/>
        </p:nvPicPr>
        <p:blipFill>
          <a:blip r:embed="rId1"/>
          <a:stretch/>
        </p:blipFill>
        <p:spPr>
          <a:xfrm>
            <a:off x="1428840" y="1857240"/>
            <a:ext cx="6083280" cy="4508640"/>
          </a:xfrm>
          <a:prstGeom prst="rect">
            <a:avLst/>
          </a:prstGeom>
          <a:ln w="0">
            <a:noFill/>
          </a:ln>
        </p:spPr>
      </p:pic>
      <p:sp>
        <p:nvSpPr>
          <p:cNvPr id="98" name="Zástupný symbol pro obsah 3"/>
          <p:cNvSpPr/>
          <p:nvPr/>
        </p:nvSpPr>
        <p:spPr>
          <a:xfrm>
            <a:off x="285840" y="1071720"/>
            <a:ext cx="8358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vislost relativního hematokritu v dceřinné tepně na hematokritu v tepně mateřské. Parametrem je průměr dceřinné tepny v mikrometrech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ástupný symbol pro obsah 3"/>
          <p:cNvSpPr/>
          <p:nvPr/>
        </p:nvSpPr>
        <p:spPr>
          <a:xfrm>
            <a:off x="609480" y="2000160"/>
            <a:ext cx="82296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proudění je určován podle Reynoldsova čísla. To přesahuje kritickou hodnotu (2320) pouze v oblasti aortální chlopně při systole (až 8000), jinak jsou všude hodnoty podkritické. Vzhledem k pulzujícímu charakteru proudění v tepnách je proudění všude laminární, s výjimkou úplavů, např. za nedokonalými chlopněmi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nestacionární proudění krve (periodický, neharmonický průběh) je však třeba používat jin é podobnostní kriterium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85716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Nestacionárnost proudění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Podobnostní čís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3924360" y="1989000"/>
                <a:ext cx="2151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Rectangle 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73200" y="134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jadřují poměr vybraných sil působících na kapalinu.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námé Reynoldsovo číslo vyjadřuje poměr setrvačných a viskózních sil při stacionárním proudění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63480" y="299736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měr setrvačných a viskózních sil při pulzačním proudění vyjadřuje podobnostní číslo zvané „Womersley parameter“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4537080" y="2060640"/>
                <a:ext cx="10429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d</m:t>
                        </m:r>
                      </m:num>
                      <m:den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1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0"/>
              <p:cNvSpPr txBox="1"/>
              <p:nvPr/>
            </p:nvSpPr>
            <p:spPr>
              <a:xfrm>
                <a:off x="3240000" y="3738600"/>
                <a:ext cx="1692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om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0" name="Rectangle 12"/>
          <p:cNvSpPr/>
          <p:nvPr/>
        </p:nvSpPr>
        <p:spPr>
          <a:xfrm>
            <a:off x="1187280" y="4724280"/>
            <a:ext cx="5761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 - poloměr trubi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ω - úhlová frekvence pulzačního proudění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ν - kinematická viskozit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:\Biomechanika-obrázky+video\Copak to je.jpg"/>
          <p:cNvPicPr/>
          <p:nvPr/>
        </p:nvPicPr>
        <p:blipFill>
          <a:blip r:embed="rId1"/>
          <a:stretch/>
        </p:blipFill>
        <p:spPr>
          <a:xfrm>
            <a:off x="468360" y="765000"/>
            <a:ext cx="832464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Hemolý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oškozování krevních tělíse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především erytrocytů. K porušení membrány erytrocytu stačí smykové napětí řádu desítek Pascalů (může nastávat i při turbulenci). Nejvýznamnější hemolýza je způsobena umělými komponentami srdečně-cévní soustavy (chlopně, součásti mimotělního oběhu, podpůrná srdeční čerpadl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vantifikace se provádí na základě měření obsahu volného hemoglobinu v krvi – důležité kriterium kvality mechanických náh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673200" y="31417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Times New Roman"/>
              </a:rPr>
              <a:t>Srážlivost krve-tvorba trombů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9640" y="4119480"/>
            <a:ext cx="82296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volávána krevními destičkami – trombocyty. Významné ovlivňující faktory jsou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izí tělesa (náhrady – druh materiálu, geometrie, povrchové opracování)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urbulence – např. za stenózou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horšené vyplachování (nekróza části myokardu, aterosklerotické pláty, výdutě).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Členění nenewtonských kap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3933720"/>
            <a:ext cx="640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Nenewtonské"/>
          <p:cNvPicPr/>
          <p:nvPr/>
        </p:nvPicPr>
        <p:blipFill>
          <a:blip r:embed="rId2"/>
          <a:srcRect l="8963" t="9352" r="6784" b="17051"/>
          <a:stretch/>
        </p:blipFill>
        <p:spPr>
          <a:xfrm>
            <a:off x="250920" y="1700280"/>
            <a:ext cx="5400720" cy="39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3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4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369720" y="1484280"/>
            <a:ext cx="457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τ </a:t>
            </a:r>
            <a:r>
              <a:rPr b="0" lang="cs-CZ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5194440" y="5551560"/>
            <a:ext cx="31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210280" y="5572080"/>
            <a:ext cx="6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●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5219640" y="1463760"/>
            <a:ext cx="3313080" cy="46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 časově nezávislými vlastnostmi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inghamské (směsi – splašky, zubní pasta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seudoplastické (vliv orientace makromolekul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latantní (směsi např vody s pískem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 časově závislými vlastnostmi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ixotropní (natěračské barvy, viskozita klesá s dobou působení smykového napětí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) reopexní (sádra, viskozita roste s dobou působení smykového napětí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7"/>
              <p:cNvSpPr txBox="1"/>
              <p:nvPr/>
            </p:nvSpPr>
            <p:spPr>
              <a:xfrm>
                <a:off x="984240" y="907920"/>
                <a:ext cx="25797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limUpp>
                      <m:e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</m:e>
                      <m:lim>
                        <m:sSup>
                          <m:e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sup>
                        </m:sSup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61" name="Text Box 23"/>
          <p:cNvSpPr/>
          <p:nvPr/>
        </p:nvSpPr>
        <p:spPr>
          <a:xfrm>
            <a:off x="395280" y="5950080"/>
            <a:ext cx="4897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ozn. :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wtonská kapalina - má konstanty: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n = 1 a k je dynamická viskozita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Line 24"/>
          <p:cNvSpPr/>
          <p:nvPr/>
        </p:nvSpPr>
        <p:spPr>
          <a:xfrm flipV="1">
            <a:off x="1258920" y="479736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3924360" y="1916280"/>
            <a:ext cx="18000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Line 26"/>
          <p:cNvSpPr/>
          <p:nvPr/>
        </p:nvSpPr>
        <p:spPr>
          <a:xfrm flipH="1">
            <a:off x="3419640" y="2637000"/>
            <a:ext cx="23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Line 27"/>
          <p:cNvSpPr/>
          <p:nvPr/>
        </p:nvSpPr>
        <p:spPr>
          <a:xfrm flipH="1">
            <a:off x="4642920" y="3141720"/>
            <a:ext cx="1008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Závislost zdánlivé viskozity krve </a:t>
            </a:r>
            <a:br>
              <a:rPr sz="3600"/>
            </a:br>
            <a:r>
              <a:rPr b="1" lang="cs-CZ" sz="2000" spc="-1" strike="noStrike">
                <a:solidFill>
                  <a:srgbClr val="333399"/>
                </a:solidFill>
                <a:latin typeface="Times New Roman"/>
              </a:rPr>
              <a:t>na rychlosti deform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Zástupný symbol pro obsah 4" descr="Viskozita_krve.JPG"/>
          <p:cNvPicPr/>
          <p:nvPr/>
        </p:nvPicPr>
        <p:blipFill>
          <a:blip r:embed="rId1"/>
          <a:stretch/>
        </p:blipFill>
        <p:spPr>
          <a:xfrm>
            <a:off x="3006720" y="1285920"/>
            <a:ext cx="5923080" cy="51433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357120" y="1571760"/>
            <a:ext cx="292896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okles zdánlivé viskozity krve s rostoucí rychlostí deformace je dán tvorbou agregátů krevních tělísek  při nízkých smykových  rychlostech  a naopak jejich rozrušováním vyššími rychlostmi.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ozptyl zdánlivé viskozity je dán hlavně teplotní závislostí a rozdílným hematokritem (objemová koncentrace erytrocytů)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Model reologických vlastností krve Carr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1081080" y="1268280"/>
                <a:ext cx="702000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γ</m:t>
                                        </m:r>
                                      </m:e>
                                    </m:acc>
                                    <m:r>
                                      <m:t xml:space="preserve">λ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2" name="Rectangle 8"/>
          <p:cNvSpPr/>
          <p:nvPr/>
        </p:nvSpPr>
        <p:spPr>
          <a:xfrm>
            <a:off x="684360" y="278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=56 mPa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λ=3,31 s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∞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=3,45 mPa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q=0,375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Model reologických vlastností krve Ca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95280" y="1341360"/>
            <a:ext cx="8507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 založen na experimentálně zjištěné přibližně lineární závislosti mezi odmocninou ze smykového napětí a odmocninou z rychlosti úhlové deforma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3240000" y="2060640"/>
                <a:ext cx="1763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τ</m:t>
                        </m:r>
                      </m:e>
                    </m:rad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8" name="Rectangle 12"/>
          <p:cNvSpPr/>
          <p:nvPr/>
        </p:nvSpPr>
        <p:spPr>
          <a:xfrm>
            <a:off x="395280" y="2565360"/>
            <a:ext cx="8507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 níž jednoduchou úpravou dostaneme obvyklý tvar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3"/>
              <p:cNvSpPr txBox="1"/>
              <p:nvPr/>
            </p:nvSpPr>
            <p:spPr>
              <a:xfrm>
                <a:off x="1873080" y="3068640"/>
                <a:ext cx="5220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˙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γ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de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s</m:t>
                                </m:r>
                              </m:e>
                            </m:rad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so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álové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metr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Graf reologických vlastností k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4"/>
          <p:cNvGraphicFramePr/>
          <p:nvPr/>
        </p:nvGraphicFramePr>
        <p:xfrm>
          <a:off x="755640" y="1365120"/>
          <a:ext cx="8064360" cy="474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65120"/>
                    <a:ext cx="8064360" cy="47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Závislost zdánlivé viskozity krve</a:t>
            </a:r>
            <a:br>
              <a:rPr sz="3600"/>
            </a:br>
            <a:r>
              <a:rPr b="1" lang="cs-CZ" sz="2400" spc="-1" strike="noStrike">
                <a:solidFill>
                  <a:srgbClr val="333399"/>
                </a:solidFill>
                <a:latin typeface="Times New Roman"/>
              </a:rPr>
              <a:t>na rychlosti úhlové defor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4"/>
          <p:cNvGraphicFramePr/>
          <p:nvPr/>
        </p:nvGraphicFramePr>
        <p:xfrm>
          <a:off x="685800" y="1600200"/>
          <a:ext cx="7772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bursa</cp:lastModifiedBy>
  <dcterms:modified xsi:type="dcterms:W3CDTF">2013-02-27T08:11:24Z</dcterms:modified>
  <cp:revision>289</cp:revision>
  <dc:subject/>
  <dc:title>Biomechanics  of smooth muscle cells</dc:title>
</cp:coreProperties>
</file>