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C27-7BED-4C41-846C-97B14321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E78-D1BB-4EAA-A821-FD7B419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913-9B9D-490B-A598-84ED5EFD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164-D966-47F7-B90B-E6CAEC6B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E4D-E4A8-40A7-8047-C5F40DF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39D-31F8-41EA-AAC9-F273EA1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987-FD59-4A68-A7C3-3AD13A73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F51-8ADC-4E4A-AD8D-567133C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C7B-9640-4B96-BB79-D863762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DB3-DFC8-457B-9042-B26A90A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F1C-F4A6-4C7F-88DA-28E5D87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5EC-40D5-429C-955C-16CD82A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E0E-A56B-4D59-9323-8D1539F262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Nejjednodušší 3D tensegritní so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4000" y="907920"/>
            <a:ext cx="273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jednodušší 3D tensegritní soustava se dá vytvořit  se 3 tlakovými a 9 tahovými čle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ensegrity3D"/>
          <p:cNvPicPr/>
          <p:nvPr/>
        </p:nvPicPr>
        <p:blipFill>
          <a:blip r:embed="rId1"/>
          <a:srcRect l="14037" t="9332" r="17546" b="9332"/>
          <a:stretch/>
        </p:blipFill>
        <p:spPr>
          <a:xfrm>
            <a:off x="3132000" y="1700280"/>
            <a:ext cx="4996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11-14T14:16:23Z</dcterms:modified>
  <cp:revision>228</cp:revision>
  <dc:subject/>
  <dc:title>Biomechanics  of smooth muscle cells</dc:title>
</cp:coreProperties>
</file>