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EE1-C771-4532-82D1-9E603B5A08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modelování všech komponent buňky používáme lineárně elastický    konstitutivní model, který vzhledem k malému počtu konstitutivních parametrů usnadňuje jejich identifikaci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tabulce jsou hodnoty elastických konstant, které jsme použili jako výchozi pro citlivostní analýz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3FB-7EC6-4A1B-892C-05F54185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921-5D7A-4CA1-83BA-650F3E9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3E4-E0AA-4D6E-9CD8-D62900E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AB2-A7A7-4989-827E-9F1DF7F4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EF5-E871-4299-8544-F59E6A10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2D9-880D-4F7C-970C-C0253586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AE6-F82E-449B-ABAF-DCA479FB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DF6-05A7-4BE1-8AC0-3BB4C22A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0B4-12BB-4054-AACC-E48ACAA2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BF4-F4C1-449D-B1F3-14218C0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5CB-A88C-49F8-A9C2-4832D5D3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15B-9700-4CC4-9080-87D04F7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587-3C86-46A2-9DD6-8C5A56A7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Materiálové vlastnosti mode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šechny složky jsou modelovány jako lineárně elastické izotropní materiály (kvůli snížení počtu parametrů, které je třeba identifikovat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dosažení odezvy (tj. křivky hloubka vtlačení – síla) modelu odpovídající experimentům byly zvoleny elastické parametry jednotlivých komponent modelu podle následující tabul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921120"/>
          <a:ext cx="7772400" cy="2100240"/>
        </p:xfrm>
        <a:graphic>
          <a:graphicData uri="http://schemas.openxmlformats.org/drawingml/2006/table">
            <a:tbl>
              <a:tblPr/>
              <a:tblGrid>
                <a:gridCol w="1941480"/>
                <a:gridCol w="1008000"/>
                <a:gridCol w="1224000"/>
                <a:gridCol w="1728720"/>
                <a:gridCol w="1008360"/>
                <a:gridCol w="861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tub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filamen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v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ke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to-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užnost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kP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son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číslo [-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39:17Z</dcterms:created>
  <dc:creator>Jiri Bursa</dc:creator>
  <dc:description/>
  <dc:language>en-US</dc:language>
  <cp:lastModifiedBy>Jiri Bursa</cp:lastModifiedBy>
  <dcterms:modified xsi:type="dcterms:W3CDTF">2007-01-07T20:45:14Z</dcterms:modified>
  <cp:revision>2</cp:revision>
  <dc:subject/>
  <dc:title>Materiálové vlastnosti modelu</dc:title>
</cp:coreProperties>
</file>