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4241-69EE-436E-80BF-BFB89F9C3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E465-A453-4667-9D29-8E0560A0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E842-28F1-4A5A-B524-5E900B792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3555-EED9-4286-907F-0A7B5FCE7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B6EB-78AD-4EBF-A3C1-5D7F735C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D14E-6944-4B5A-B42F-4F95B12E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CB64-AEB8-4DCE-ABA6-A20F7E53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CD78-E73C-46D2-945C-706C0675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C291-0865-4EF2-99FF-7B69417A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8A2D-C697-4F54-B538-9458E787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C373-927F-4581-BA6C-3C382507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004B-12A4-461D-9569-6C03B1B2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9925-7785-4A0B-A2FE-8779A73B0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424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oustava tvaru šestiúhelní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1268280"/>
            <a:ext cx="84247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uspořádání úhlopříčných prutů do trojúhelníka nebo vějíře je soustava staticky určitá. Přestože se obě topologie liší počtem os symetrie, ani jedna z obou konfigurací nevykazuje tensegritní vlastnos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17544" t="9334" r="17544" b="9334"/>
          <a:stretch/>
        </p:blipFill>
        <p:spPr>
          <a:xfrm>
            <a:off x="4772160" y="2852640"/>
            <a:ext cx="3760560" cy="3375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17546" t="9332" r="17546" b="9332"/>
          <a:stretch/>
        </p:blipFill>
        <p:spPr>
          <a:xfrm>
            <a:off x="684360" y="2852640"/>
            <a:ext cx="38098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424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oustava tvaru šestiúhelní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981000"/>
            <a:ext cx="8496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segritní soustavu lze vytvořit dvěma následujícími způsob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 přeuspořádáním úhlopříčných prutů do tvaru hvězdy, bez změny jejich počtu, jen změnou symetrie soustavy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 přidáním dalších tří prutů v trojúhelníkovém uspořádání; oba trojúhelníky jsou vzájemně pootoče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17546" t="9332" r="17546" b="9332"/>
          <a:stretch/>
        </p:blipFill>
        <p:spPr>
          <a:xfrm>
            <a:off x="685800" y="2604960"/>
            <a:ext cx="3843360" cy="3573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17544" t="9334" r="17544" b="9334"/>
          <a:stretch/>
        </p:blipFill>
        <p:spPr>
          <a:xfrm>
            <a:off x="4716360" y="2637000"/>
            <a:ext cx="386892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1:51:18Z</dcterms:created>
  <dc:creator>Jiri Bursa</dc:creator>
  <dc:description/>
  <dc:language>en-US</dc:language>
  <cp:lastModifiedBy>umt</cp:lastModifiedBy>
  <dcterms:modified xsi:type="dcterms:W3CDTF">2007-01-08T13:18:00Z</dcterms:modified>
  <cp:revision>4</cp:revision>
  <dc:subject/>
  <dc:title>Regular hexagonal structure</dc:title>
</cp:coreProperties>
</file>