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8C8-E205-4B3A-8546-5E5A9A67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8CF-024E-4D56-97F9-B6FCEAE2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7B9-AAEB-4A80-8EFD-6DC2F7BC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EB5-BDE0-460D-B795-BEF7FAF0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BEB-B9D4-45B7-A594-E4103FC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B39-3CDB-4643-9850-7892546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045-1CE3-472E-BA1C-AAFBD4C2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1C5-85B7-4335-8AD8-E8DFC75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5B0-7A35-4ADB-A015-2ACF9FBA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B0B-4856-4152-8E72-08A8870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7D4-82AB-41D3-9202-7F3163DE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416-568E-4F29-B276-2D81254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6BE-3710-4052-8480-F5D1EF439A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39640" y="17002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rdečně-cévní soustavy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68360" y="2421000"/>
            <a:ext cx="8372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krevního tlaku – hypertenz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elektrické stimulace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cké změny cév (ateroskleróza, uzávěry, výdutě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e myokardu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ady srdečních chlopní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pojení velkého a malého oběh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ísta počátku sklerotických zm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12000" y="1700280"/>
            <a:ext cx="252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karotid a podklíčkových tepen z oblouku aorty, bifurkace karotid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tepen (renálních, střevních atd.) z břišní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14" descr="u3v22"/>
          <p:cNvPicPr/>
          <p:nvPr/>
        </p:nvPicPr>
        <p:blipFill>
          <a:blip r:embed="rId1"/>
          <a:srcRect l="2042" t="0" r="4083" b="0"/>
          <a:stretch/>
        </p:blipFill>
        <p:spPr>
          <a:xfrm rot="21540000">
            <a:off x="2268000" y="907560"/>
            <a:ext cx="3926160" cy="5462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468360" y="1268280"/>
            <a:ext cx="2160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nčité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furkace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luboká tepna stehen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835280" y="1413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1835280" y="1413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 flipV="1">
            <a:off x="2050920" y="2997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1979640" y="443700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5508360" y="1916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5795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22"/>
          <p:cNvSpPr/>
          <p:nvPr/>
        </p:nvSpPr>
        <p:spPr>
          <a:xfrm flipH="1">
            <a:off x="5866920" y="335772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11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hemodyna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namáhá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4941720"/>
            <a:ext cx="7775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darterektomi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ioplastik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ální stenty – kovové výztuž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évní náhrady – přemostění nebo náhrada zúžené arteri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8360" y="43797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tody chirurgické léčby sklerotických tepen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ouvisící s aterosklerózo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ina pectoris, endoteliální dysfunkce, demence… (důsledky chronického zhoršeného prokrvení různých tkání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arkt myokardu (“srdeční mrtvice” – úmrtnost cca 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ročně, několikanásobně větší množství postižených je ošetřeno angioplastikou nebo bypass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, náhlá mozková příhoda (“mozková mrtvice”) atd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eurysm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dutě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p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rozšířená místa na te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 </a:t>
            </a:r>
            <a:br>
              <a:rPr sz="32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v bifurkaci arterie car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ísta počátku sklerotických změ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zočáry největšího hlavního napět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kleroza1"/>
          <p:cNvPicPr/>
          <p:nvPr/>
        </p:nvPicPr>
        <p:blipFill>
          <a:blip r:embed="rId1"/>
          <a:stretch/>
        </p:blipFill>
        <p:spPr>
          <a:xfrm>
            <a:off x="539640" y="1989000"/>
            <a:ext cx="81788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odstata a fáze aterosklerotického proces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1125360"/>
            <a:ext cx="82296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lesterol (o nízké hustot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DL-cholesterol) v krevním řečišti proniká do stěny tep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čemuž napomáhá poškození endotel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unitní systém vysílá makrofágy s cílem pohltit cholesterol. Makrofágy se se tím mění na pěnové buňky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se hromadí a stávají se hlavní složkou sklerotického plátu, který omezuje krevní průtok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pna se může sna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modelací zvětšit svůj průměr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ž je jedna z hypotéz mechanismu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zniku aneurysmat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nes spíše opouštěn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ňky hladkého svalstva vytvářejí vazivový (fibrózní) kryt ateromu (sklerotického plátu), který zajišťuje, aby povrch zůstal smáčivý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v plátu vylučují chemické látky oslabující vazivový kry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kud dojde k ruptuře (porušení) krytu plátu, kontakt krve s tukovým obsahem ateromu způsobí vznik krevní sraženiny, která může 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 tepnu (pokud se jedná o koronární tepnu, dojde k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farktu myokar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Endarterektom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125360"/>
            <a:ext cx="828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irurgické odstranění rozsáhlých ateromatózních plátů z karotid, příp. věnčitých tepen (tam se používá především u jejich difúzního postižení, znemožňujícího použití bypassu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20" descr="u3v10"/>
          <p:cNvPicPr/>
          <p:nvPr/>
        </p:nvPicPr>
        <p:blipFill>
          <a:blip r:embed="rId1"/>
          <a:srcRect l="0" t="0" r="0" b="20062"/>
          <a:stretch/>
        </p:blipFill>
        <p:spPr>
          <a:xfrm>
            <a:off x="1476360" y="227664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376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erkutánní transluminární koronární angiopla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052640"/>
            <a:ext cx="280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p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erosklerotický plá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stenózy zaveden tenký vodič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místa stenózy zaveden 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fouknutí balónku tlakem několika desetin MP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stav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07"/>
          <p:cNvPicPr/>
          <p:nvPr/>
        </p:nvPicPr>
        <p:blipFill>
          <a:blip r:embed="rId1"/>
          <a:stretch/>
        </p:blipFill>
        <p:spPr>
          <a:xfrm>
            <a:off x="3583080" y="1054080"/>
            <a:ext cx="4444920" cy="503892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1476360" y="126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547640" y="1483920"/>
            <a:ext cx="259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692360" y="184428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916360" y="256536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7:41:26Z</dcterms:modified>
  <cp:revision>275</cp:revision>
  <dc:subject/>
  <dc:title>Biomechanics  of smooth muscle cells </dc:title>
</cp:coreProperties>
</file>