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C98-6D11-422B-BEB4-BDA8481F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438-5550-466F-BCC6-39A50503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43A-B6A9-48A4-B168-4808E878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867E-D7E4-4E6D-95D7-67DD2238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1D4-F751-4551-B432-4650F54D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956-3759-4C61-B2F0-A45D3A81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4DE5-614C-4CAC-86B2-2028B806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06FF-2797-4E24-A9BC-F8973E1F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726-8AEC-4A86-8535-001FD7E5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096-310A-4969-829D-88F69C5D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63FE-4B7A-463F-A779-29297CE2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284E-08B0-42D6-8074-AB506CD7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0D54-A237-43FD-AD74-4B572DEB298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epny.pdf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787040"/>
            <a:ext cx="3035160" cy="12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chéma srdce 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a jeho zapojení v krevním oběh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3" name="Picture 12" descr="bmsc006"/>
          <p:cNvPicPr/>
          <p:nvPr/>
        </p:nvPicPr>
        <p:blipFill>
          <a:blip r:embed="rId1"/>
          <a:srcRect l="12908" t="9867" r="10816" b="33034"/>
          <a:stretch/>
        </p:blipFill>
        <p:spPr>
          <a:xfrm>
            <a:off x="3564000" y="1195560"/>
            <a:ext cx="5329080" cy="5329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3"/>
          <p:cNvSpPr/>
          <p:nvPr/>
        </p:nvSpPr>
        <p:spPr>
          <a:xfrm>
            <a:off x="385920" y="3141720"/>
            <a:ext cx="31780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LS – levá síň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LK – levá komor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 – aort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DŽ – dolní dutá žíl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DŽ – horní dutá žíl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S – pravá síň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K- pravá komor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T – plicní tepny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MP – mezikomorová přepážka (septum)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P – síňová přepážka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 – chlopeň mitrální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 – chlopeň aortální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 – chlopeň trojcípá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4 – chlopeň plícnice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5" name="Obrázek 5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96872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chéma srdce 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a jeho základní rozmě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85920" y="1413000"/>
            <a:ext cx="31780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LS – levá síň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LK – levá komor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 – aort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DŽ – dolní dutá žíl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DŽ – horní dutá žíl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S – pravá síň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K- pravá komor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 – plícnice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A uzel – sinoatriální uzel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S – Hissův svazek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R – Tavarova raménk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V – Purkyňova vlákna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CHM – chlopeň mitrální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CHA – chlopeň aortální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CHT – chlopeň trojcípá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CHP – chlopeň plícnice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9" name="Picture 6" descr="bmsc0080001"/>
          <p:cNvPicPr/>
          <p:nvPr/>
        </p:nvPicPr>
        <p:blipFill>
          <a:blip r:embed="rId1"/>
          <a:srcRect l="7147" t="15630" r="3333" b="11622"/>
          <a:stretch/>
        </p:blipFill>
        <p:spPr>
          <a:xfrm>
            <a:off x="3851280" y="1122480"/>
            <a:ext cx="47656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Vznik vírů za semilunární chlopní v aortálním s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2" name="Obrázek 5" descr="proudění za chlopní.JPG"/>
          <p:cNvPicPr/>
          <p:nvPr/>
        </p:nvPicPr>
        <p:blipFill>
          <a:blip r:embed="rId1"/>
          <a:srcRect l="0" t="43085" r="0" b="0"/>
          <a:stretch/>
        </p:blipFill>
        <p:spPr>
          <a:xfrm>
            <a:off x="614520" y="1773360"/>
            <a:ext cx="78451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Příčný řez pravou a levou srdeční komor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85920" y="907920"/>
            <a:ext cx="3609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2770200" y="1328760"/>
            <a:ext cx="5689440" cy="4044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95280" y="1413000"/>
            <a:ext cx="23050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e kontrakci dochází jednak v příčné rovině, jednak podélné (přiblížení hrotu s báze srdeční).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rpací výkonnost srdce: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5,5 l/min. v klidu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ž 25 l/min při námaze 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očet cyklů celkově za život řádu miliard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rdeční ske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Srdeční_skelet"/>
          <p:cNvPicPr/>
          <p:nvPr/>
        </p:nvPicPr>
        <p:blipFill>
          <a:blip r:embed="rId1"/>
          <a:srcRect l="0" t="635" r="0" b="1614"/>
          <a:stretch/>
        </p:blipFill>
        <p:spPr>
          <a:xfrm>
            <a:off x="1189080" y="1628640"/>
            <a:ext cx="67658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chéma a názvy </a:t>
            </a: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velkých tepen tělního obě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rcRect l="10027" t="19744" r="52243" b="13986"/>
          <a:stretch/>
        </p:blipFill>
        <p:spPr>
          <a:xfrm>
            <a:off x="826920" y="836640"/>
            <a:ext cx="5040360" cy="57610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atinské názv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velkých tepen:</a:t>
            </a:r>
            <a:br>
              <a:rPr sz="1800"/>
            </a:br>
            <a:br>
              <a:rPr sz="18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polečná tepna krční  pravá/levá -  Arteria carotis communis dextra/sinist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. podklíčková p./l. -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. subclavia dex./sin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Oblouk aorty – Arcus aortae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zestupná aorta – Aorta ascendens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estupná aorta hrudní –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orta thoracica descendens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oronární tepny –Arteriae coronariae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epna ledvinná p./l.– Arteria renalis d./s. 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orta břišní – Aorta abdominalis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epna kyčelní – Arteria iliaca communis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epna stehen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– Arteria femoralis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5148360" y="1341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08080"/>
                </a:solidFill>
                <a:latin typeface="Times New Roman"/>
              </a:rPr>
              <a:t>levá</a:t>
            </a:r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4640" y="764640"/>
            <a:ext cx="260208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éma cév lidského těla</a:t>
            </a:r>
            <a:br>
              <a:rPr sz="3200"/>
            </a:b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robnější informace lze nalézt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zd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évy-anatomie"/>
          <p:cNvPicPr/>
          <p:nvPr/>
        </p:nvPicPr>
        <p:blipFill>
          <a:blip r:embed="rId2"/>
          <a:stretch/>
        </p:blipFill>
        <p:spPr>
          <a:xfrm>
            <a:off x="3738600" y="333360"/>
            <a:ext cx="51372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2-02-22T09:31:06Z</dcterms:modified>
  <cp:revision>253</cp:revision>
  <dc:subject/>
  <dc:title>Biomechanics  of smooth muscle cells </dc:title>
</cp:coreProperties>
</file>