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7E2-16A6-4C5C-B60B-B937BD5B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735-4BDF-4A35-8D69-3CC41FB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847-801C-403E-B470-CFEDBBF4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A29-9C98-4D6D-99F0-7950DE64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C9D-A6A4-4DFF-B208-F251AB26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E6B-0B0F-40C5-966F-8876CEE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A08-9DCA-4D4D-AF55-798B757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F19-B70F-47CD-9A6B-8DC08548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1DB-7C6F-44BB-A5A5-82C74FC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932-AD8A-4886-9A92-DE6BCC02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23D-4CB5-4CC5-9366-9053F4A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ED1-0063-4B86-8622-9EF49AA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3424-3856-41E9-A0B6-B5AC37B682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LOSNER_SEGAL_fit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 měkké tkáně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-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yper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vzhledem k výrazně zpevňujícímu charakteru deformačně-napěťových křivek jsou vhodné jiné modely než pro technické elastom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isko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lineární viskoelasticity (s mal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nelineární viskoelasticity (s velk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zohledňují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alový t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y zohledňujíc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strukturu tkáně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ěr kolagenních vlák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nizotrop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4500720" y="290520"/>
            <a:ext cx="4319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i napětí na přetvoření pro různé typy zkoušek simulované logaritmickým mo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3" name="Obrázek 7" descr="energie2D-1.JPG"/>
          <p:cNvPicPr/>
          <p:nvPr/>
        </p:nvPicPr>
        <p:blipFill>
          <a:blip r:embed="rId1"/>
          <a:srcRect l="10157" t="19932" r="13283" b="19932"/>
          <a:stretch/>
        </p:blipFill>
        <p:spPr>
          <a:xfrm>
            <a:off x="928800" y="1428840"/>
            <a:ext cx="7626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izotropní exponenciální model - Holza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zotropní část měrné energie napjatost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z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plat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n teh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ou-li vlákna namáhána v tahu, ted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maticky dána následov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měrná energie napjat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, k1, k2, 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kovan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vé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uchy-Gre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ormac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yjadřují deformaci výztužných vlá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=det(F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řetí invariant tenzoru deformačního gradien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411280" y="1482840"/>
                <a:ext cx="4548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971640" y="2781360"/>
                <a:ext cx="30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6891480" y="2997360"/>
                <a:ext cx="993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1979640" y="3429000"/>
                <a:ext cx="26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6912000" y="3500280"/>
                <a:ext cx="1116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6877080" y="4070520"/>
                <a:ext cx="1224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6948360" y="4653000"/>
                <a:ext cx="100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4"/>
              <p:cNvSpPr txBox="1"/>
              <p:nvPr/>
            </p:nvSpPr>
            <p:spPr>
              <a:xfrm>
                <a:off x="2673360" y="3933720"/>
                <a:ext cx="2690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6"/>
              <p:cNvSpPr txBox="1"/>
              <p:nvPr/>
            </p:nvSpPr>
            <p:spPr>
              <a:xfrm>
                <a:off x="4284720" y="4653000"/>
                <a:ext cx="1476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Obdélník 20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koelastic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materi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á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s vel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 deforma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matické formulace viskoelastických konstitutivních modelů respektujících velké deformace jsou analogické formulacím hyperelastickým. Protože se však jedná o stavy termodynamicky nerovnovážné, místo funkce měrné energie napjatosti se používá Helmholtzova volná energie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-TS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 je absolutní teplota, S je entropie, pro elastické materiály jsou obě energie totožné). Tato energie se vyjadřuje v obecném tva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            je objemová složka Helmholtzovy volné energie,          je její izochorická (deviátorová) složka,       je deviátorová část pravého Cauchy-Greenova tenzoru deformace, J je třetí invariant tenzoru deformačního gradientu,          j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ž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unkcí popisujících nevratnou část Helmholtzovy volné energie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nožina funkcí popisujících časovou závislost deformace.  Pro matematický popis lze využívat reologických modelů podobně jako u lineární viskoelasticity, podrobnosti lze nalézt např. v níže uvedené literatuř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7476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mo, J.C., "On fully three-dimensional finite strain viscoelastic damage model: Formulation and computational aspects", Comput. Meth. In Appl. Mech. Eng., Vol. 60, pp. 153-173 (1987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.A. Holzapfel, "On large strain viscoelasticity: continuum formulation and finite element applications to elastomeric structures", Int. J. Numer. Meth. Eng., Vol. 39, pp. 3903-3926 (1996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2924280"/>
                <a:ext cx="332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900000" y="3481560"/>
                <a:ext cx="4320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5"/>
              <p:cNvSpPr txBox="1"/>
              <p:nvPr/>
            </p:nvSpPr>
            <p:spPr>
              <a:xfrm>
                <a:off x="5435640" y="346248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8"/>
              <p:cNvSpPr txBox="1"/>
              <p:nvPr/>
            </p:nvSpPr>
            <p:spPr>
              <a:xfrm>
                <a:off x="2355840" y="371628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4444920" y="3976560"/>
                <a:ext cx="271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yto modely rozkládají Cauchyho tenzor napětí n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ív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část - určuje ze vztahu pro měrnou energii napjatosti při pasívním chování (ovlivněném hlavně elastinem a kolagenem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v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st - vyjadřující vliv hladké svalov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složka napětí je pak funkcí nejen deformace, ale i koncentrace volných kalciových kationtů ve svalových buňk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krétně autoř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yjadřují aktivní složku tenzoru napětí hladké svaloviny vzta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4760" y="58039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achev A., Hayashi K.: Theoretical study of the effects of vascular smooth muscle contraction on strain and stress distributions in arteries.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Ann. Biomed. Eng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, Vol. 27, 1999, pp. 459-468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386064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stanta A nabývá hodnot od 0 kPa (relaxovaný-pasívní stav) do 100 kPa (plně aktivovaný stav), bazální tonus odpovídá hodnotě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50kPa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 vyjadřuje intracelulární koncentraci kalciových iontů,  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sou poměrná protažení, při nichž kontraktilní síla dosahuje maximální a minimální hodnoty,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jednotkový vektor směru svalových vláken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484360" y="3295800"/>
                <a:ext cx="3784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9640" y="5587920"/>
            <a:ext cx="80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ulliger M.A., Rachev A., Stergiopulos N.: A constitutive formulation of arterial mechanics including vascular smooth muscle tone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m J Physiol Heart Circ Physiol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ol. 287, 2004, pp. H1335-H1343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2421000"/>
            <a:ext cx="83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podíl hladkého svalstva v příčném průřezu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je jeho Youngův modul pružnosti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vnitřní proměnná charakterizující tonus hladkého svalstva hodnotami od 0 (pro svalovinu plně relaxovanou, tj. zcela pasívní) do 1 (pro svalovinu ve stavu maximální kontrakce)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 může být funkcí koncentrace vasokonstrikčních látek nebo může být funkcí deformace stěny, aby postihla remodelaci cévní stěny jako odezvu na změnu jejího zatížení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1197000"/>
            <a:ext cx="8362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ř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jadřují vliv aktivace hladké svaloviny vztah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2168640" y="1785960"/>
                <a:ext cx="427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s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Klosner-Segal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z 9-parametrického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pravého Cauchy-Greenova tenzo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losner-Seg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je považován za vhodný pro měkké tkáně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ředem urč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1324080" y="5214960"/>
                <a:ext cx="6381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Obdélník 7"/>
          <p:cNvSpPr/>
          <p:nvPr/>
        </p:nvSpPr>
        <p:spPr>
          <a:xfrm>
            <a:off x="500040" y="57704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osner, J. M. and Segal, A. (1969) Mechanical characterization o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ural rubber. PIBAL Report 6942 Polytechnic Inst. Brookly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Y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Raghavan-Vorp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35164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rovněž z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Cauchy-Greenova tenzoru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aghavan-Vorp*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byl vytvořen a otestován speciálně pro měkké tkáně stěny tepny (aneurysma)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předem urči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2857680" y="5000760"/>
                <a:ext cx="333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3"/>
          <p:cNvSpPr/>
          <p:nvPr/>
        </p:nvSpPr>
        <p:spPr>
          <a:xfrm>
            <a:off x="649440" y="5715000"/>
            <a:ext cx="835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cs-CZ" sz="1800" spc="-1" strike="noStrike">
                <a:solidFill>
                  <a:srgbClr val="808080"/>
                </a:solidFill>
                <a:latin typeface="Times New Roman"/>
              </a:rPr>
              <a:t>Raghavan  ML, Vorp DA: Toward a biomechanical tool to evaluate rupture potential of abdominal aortic aneurysma: identification of a finite strain constitutive model and evaluation of its applicability. Journal of  Biomechanics 33( 2000) 475-482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Arruda-Boyce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na rozdíl od předchozích modelů ryze fenomenologických vychází ze struktury materiálu a zavádí v energii napjatosti mezní protažení strukturních řetězců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počáteční modul pružnosti ve smy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ezní protažení strukturních řetězc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 = parametr stlačitelnosti materiálu, daný vztahem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K je objemový modul pruž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odifikovaný první invariant pravého Cauchy-Greenova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u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 = třetí invariant tenzoru deformačního gradien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—› ∞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aneme model Neo-Hoo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804000" y="3789360"/>
                <a:ext cx="762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539640" y="1844640"/>
                <a:ext cx="468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809800" y="2565360"/>
                <a:ext cx="5507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737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258920" y="4581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Omezení modelu Arruda-Boyce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 Arruda Boyce není schopen dostatečně přesně popsat výrazně zpevňující experimentální křivku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1282680" y="1916280"/>
          <a:ext cx="645804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916280"/>
                    <a:ext cx="645804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40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zotropní exponenciální model - Del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a, b, d jsou materiálové parametry,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modifikovaný první invariant pravého Cauchy-Greenova tenzoru deformace, J je třetí invariant tenzoru deformačního gradientu. Původní model bez objemové složky navrhl Demiray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exponenciální model Fungova typ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 nejjednodušší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c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zanedbává radiální přetvoření, pro jejich zahrnutí se použije  rozšířená formulace, k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2554200" y="1484280"/>
                <a:ext cx="2809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6"/>
          <p:cNvGrpSpPr/>
          <p:nvPr/>
        </p:nvGrpSpPr>
        <p:grpSpPr>
          <a:xfrm>
            <a:off x="1109520" y="3573360"/>
            <a:ext cx="6918120" cy="576000"/>
            <a:chOff x="1109520" y="3573360"/>
            <a:chExt cx="6918120" cy="576000"/>
          </a:xfrm>
        </p:grpSpPr>
        <mc:AlternateContent>
          <mc:Choice xmlns:a14="http://schemas.microsoft.com/office/drawing/2010/main" Requires="a14">
            <p:sp>
              <p:nvSpPr>
                <p:cNvPr id="77" name="Object 19"/>
                <p:cNvSpPr txBox="1"/>
                <p:nvPr/>
              </p:nvSpPr>
              <p:spPr>
                <a:xfrm>
                  <a:off x="1109520" y="3576960"/>
                  <a:ext cx="188712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Q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0"/>
                <p:cNvSpPr txBox="1"/>
                <p:nvPr/>
              </p:nvSpPr>
              <p:spPr>
                <a:xfrm>
                  <a:off x="5226480" y="3576960"/>
                  <a:ext cx="280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Text Box 21"/>
            <p:cNvSpPr/>
            <p:nvPr/>
          </p:nvSpPr>
          <p:spPr>
            <a:xfrm>
              <a:off x="3441240" y="3573360"/>
              <a:ext cx="1372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24"/>
              <p:cNvSpPr txBox="1"/>
              <p:nvPr/>
            </p:nvSpPr>
            <p:spPr>
              <a:xfrm>
                <a:off x="1463760" y="5229360"/>
                <a:ext cx="5556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Rectangle 12"/>
          <p:cNvSpPr/>
          <p:nvPr/>
        </p:nvSpPr>
        <p:spPr>
          <a:xfrm>
            <a:off x="457200" y="5848200"/>
            <a:ext cx="8075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39640" y="5805360"/>
            <a:ext cx="807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iray, H., "A note on the elasticity of soft biological tissues", Journal of Biomechanics 5, pp. 309-311, 1972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logaritmickýmodel - Haya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, 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polynomický model  - Maltzah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yl formulován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r otestoval, že přidávání dalších členů k použitému polynomu vlastnosti modelu podstatně nezlep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189920" y="5734080"/>
            <a:ext cx="55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1454040" y="1628640"/>
            <a:ext cx="6357960" cy="601560"/>
            <a:chOff x="1454040" y="1628640"/>
            <a:chExt cx="6357960" cy="601560"/>
          </a:xfrm>
        </p:grpSpPr>
        <mc:AlternateContent>
          <mc:Choice xmlns:a14="http://schemas.microsoft.com/office/drawing/2010/main" Requires="a14">
            <p:sp>
              <p:nvSpPr>
                <p:cNvPr id="89" name="Object 16"/>
                <p:cNvSpPr txBox="1"/>
                <p:nvPr/>
              </p:nvSpPr>
              <p:spPr>
                <a:xfrm>
                  <a:off x="1454040" y="1792440"/>
                  <a:ext cx="1530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7"/>
                <p:cNvSpPr txBox="1"/>
                <p:nvPr/>
              </p:nvSpPr>
              <p:spPr>
                <a:xfrm>
                  <a:off x="4419360" y="1641960"/>
                  <a:ext cx="263556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Text Box 18"/>
            <p:cNvSpPr/>
            <p:nvPr/>
          </p:nvSpPr>
          <p:spPr>
            <a:xfrm>
              <a:off x="7282080" y="1628640"/>
              <a:ext cx="529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3253320" y="1748880"/>
              <a:ext cx="954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2674800" y="3741840"/>
                <a:ext cx="2760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17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 napětí na dvou složkách přetvoření (simulovaná logaritmickým modelem) </a:t>
            </a:r>
            <a:br>
              <a:rPr sz="3200"/>
            </a:br>
            <a:r>
              <a:rPr b="0" lang="cs-CZ" sz="2800" spc="-1" strike="noStrike">
                <a:solidFill>
                  <a:srgbClr val="0000ff"/>
                </a:solidFill>
                <a:latin typeface="Times New Roman"/>
              </a:rPr>
              <a:t>dává obecnou prostorovou ploc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714680"/>
            <a:ext cx="8075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zy touto plochou na obr. vpravo představují závislosti napětí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přetvořeních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i základních typech dvouosých zkouš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8" name="Obrázek 6" descr="energie3D.JPG"/>
          <p:cNvPicPr/>
          <p:nvPr/>
        </p:nvPicPr>
        <p:blipFill>
          <a:blip r:embed="rId1"/>
          <a:srcRect l="20536" t="19389" r="26261" b="10818"/>
          <a:stretch/>
        </p:blipFill>
        <p:spPr>
          <a:xfrm>
            <a:off x="357120" y="242892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9" name="Obrázek 7" descr="energie2D-2.JPG"/>
          <p:cNvPicPr/>
          <p:nvPr/>
        </p:nvPicPr>
        <p:blipFill>
          <a:blip r:embed="rId2"/>
          <a:srcRect l="22509" t="21068" r="19495" b="13263"/>
          <a:stretch/>
        </p:blipFill>
        <p:spPr>
          <a:xfrm>
            <a:off x="4286160" y="2786040"/>
            <a:ext cx="43354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názornění různých typů tahových zkoušek v rovině dvou složek přetvo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Obrázek 10" descr="energie2D-3.JPG"/>
          <p:cNvPicPr/>
          <p:nvPr/>
        </p:nvPicPr>
        <p:blipFill>
          <a:blip r:embed="rId1"/>
          <a:srcRect l="0" t="12391" r="0" b="0"/>
          <a:stretch/>
        </p:blipFill>
        <p:spPr>
          <a:xfrm>
            <a:off x="1400040" y="1413000"/>
            <a:ext cx="67438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6:57Z</dcterms:modified>
  <cp:revision>302</cp:revision>
  <dc:subject/>
  <dc:title>Biomechanics  of smooth muscle cells </dc:title>
</cp:coreProperties>
</file>