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ADB3-79C1-45F1-9AC2-E0402A271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EBBE-8879-400F-B214-6AAFB1FB4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9928-2CDB-40CD-B166-3A6B80BC8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998B-00AD-400E-95EE-CFC1820CC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1EA6-F30A-4749-B3BB-8D2D5DBC0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780D-C869-4B1C-87EC-5AA2BCDF1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3A20-3F2F-49BF-B664-1F170E1AA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CEB0-1C16-42D1-9BB3-E04ED36A0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19F8-E84A-480B-BF32-6BA2D074F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B3B4-8FA2-4AF3-B312-36A1CFA61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E3ED-F717-4510-BA32-7B3CE1CB9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979B-9EC5-409D-9069-E821E9426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84E90-06C2-4E3D-860A-7F3BCBF0A10A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609120"/>
            <a:ext cx="820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Podmínky vnitřní statické určitosti a neurčitosti prutových sousta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98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tatická určitost ve 3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tatická neurčitost ve 3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tatická určitost ve 2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tatická neurčitost ve 2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d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-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čet vzpě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–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čet 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 –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čet styčník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yto podmínky se běžně používají pro orientační posouzení statické určitosti prutových soustav, selhávají však u výjimkových konfigurac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4829040" y="1916280"/>
                <a:ext cx="24796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∗</m:t>
                    </m:r>
                    <m:r>
                      <m:t xml:space="preserve">K</m:t>
                    </m:r>
                    <m:r>
                      <m:t xml:space="preserve">−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4859280" y="2492280"/>
                <a:ext cx="25704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&gt;</m:t>
                    </m:r>
                    <m:r>
                      <m:t xml:space="preserve">3</m:t>
                    </m:r>
                    <m:r>
                      <m:t xml:space="preserve">∗</m:t>
                    </m:r>
                    <m:r>
                      <m:t xml:space="preserve">K</m:t>
                    </m:r>
                    <m:r>
                      <m:t xml:space="preserve">−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4809960" y="3068640"/>
                <a:ext cx="2570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∗</m:t>
                    </m:r>
                    <m:r>
                      <m:t xml:space="preserve">K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4788000" y="3716280"/>
                <a:ext cx="25700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&gt;</m:t>
                    </m:r>
                    <m:r>
                      <m:t xml:space="preserve">2</m:t>
                    </m:r>
                    <m:r>
                      <m:t xml:space="preserve">∗</m:t>
                    </m:r>
                    <m:r>
                      <m:t xml:space="preserve">K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3T13:59:23Z</dcterms:created>
  <dc:creator>Jiří Burša</dc:creator>
  <dc:description/>
  <dc:language>en-US</dc:language>
  <cp:lastModifiedBy>Jiří Burša</cp:lastModifiedBy>
  <dcterms:modified xsi:type="dcterms:W3CDTF">2007-01-08T17:13:15Z</dcterms:modified>
  <cp:revision>2</cp:revision>
  <dc:subject/>
  <dc:title>Podmínky vnitřní statické určitosti a neurčitosti prutových soustav</dc:title>
</cp:coreProperties>
</file>