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7A0-C21E-486E-B95B-8516E35F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033-F456-4D88-9666-2757F3A7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52C-D0A7-4AA6-9131-1D0F02B2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139-8788-4A28-B716-1FAAC4DE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B41-1A74-4846-959E-B98C0159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E96-B7C2-40D8-AC6E-D7FDBB60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62A-1BD7-4765-A9A7-A89CFCF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780-4E73-4515-9667-D3E14A8A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B64-7F97-416B-AFEC-80545FC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6C6-B8D7-46D3-8A1C-CE8A613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4EA-E69F-4B28-9562-1F9064A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BFF-5DDC-43B2-95E6-36FAE79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B4C4-F8A2-4D3A-9A85-47511AA533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hlopn&#283;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AD.ppt" TargetMode="External"/><Relationship Id="rId2" Type="http://schemas.openxmlformats.org/officeDocument/2006/relationships/hyperlink" Target="file:///VAD.ppt" TargetMode="External"/><Relationship Id="rId3" Type="http://schemas.openxmlformats.org/officeDocument/2006/relationships/hyperlink" Target="file:///TAH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Nejčastěj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ší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biomechanické problémy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gina pector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nické snížení průsvitu koronárních tepen, vedoucí ke zhoršenému prokrvení myok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áhlé zhoršení funkčnosti (kontraktility) srdečního svalu v důsle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cpání některé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 – označení pro chronickou nedostatečnost srdečního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d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rdečních chlop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ologické propojení velkého a malého krevního o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kty sept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rozené nebo ruptura po infarktu myokar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tepenná dučej (spojení mezi plícnicí a aort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Hemopump – anatomické schéma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60507" t="41531" r="28148" b="32062"/>
          <a:stretch/>
        </p:blipFill>
        <p:spPr>
          <a:xfrm>
            <a:off x="826920" y="907920"/>
            <a:ext cx="3745080" cy="521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076720" y="981000"/>
            <a:ext cx="361008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vádí se z arterie femoralis přes aortální chlopeň přímo do levé srdeční komo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lo používáno od r. 1988 pro krátkodobou podporu srd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Transplantace srd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kardio6"/>
          <p:cNvPicPr/>
          <p:nvPr/>
        </p:nvPicPr>
        <p:blipFill>
          <a:blip r:embed="rId1"/>
          <a:stretch/>
        </p:blipFill>
        <p:spPr>
          <a:xfrm>
            <a:off x="3548160" y="2205000"/>
            <a:ext cx="5056200" cy="371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8360" y="234936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lícni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Le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ra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76360" y="2565360"/>
            <a:ext cx="38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76360" y="2565360"/>
            <a:ext cx="453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1258920" y="2997360"/>
            <a:ext cx="33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258920" y="3068640"/>
            <a:ext cx="54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76360" y="3933720"/>
            <a:ext cx="381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476360" y="3933720"/>
            <a:ext cx="446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1547640" y="4797360"/>
            <a:ext cx="28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1547640" y="4941360"/>
            <a:ext cx="525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3080" y="18795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Příjemce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 Dár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39640" y="10875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ikována v terminální fázi srdečního selhání, nejčastěji při ejekční frakci pod 20% a životní prognóze řádu měsíců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Transplantace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dikace k transplantaci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 srdeční onemocnění neřešitelné jiným způsob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latační kardiomyopat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úzní postižení koronárních t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škození srdce virovou infe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pakované infar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 a per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1993  proved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losvětově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0 srdečních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2003 provedeno 66 000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00 operací ročně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n v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ů s indikací k operaci cca 5x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ži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ční cca 85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íleté  cca 7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ětileté cca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měrná doba funkčnosti transplantovaného srdce je 9,5 roku, poté je jedinou možností T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Nejčastěji používané metody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o podporu a náhradu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motělní oběh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krátkodobý, během srdeční 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orto-koronární bypas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emostění špatně průchodných věnčitých t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ontrapuls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 (IABP - intraaortální baló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mopump – miniaturní čerpadlo zaváděné do srdeč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dpůrné srdeční čerpadlo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VAD) levostranné, pravostra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Umělé srd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  (TAH) – přežití do transpla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ansplantace sr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istorická data mezníků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v podpoře a náhradě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53 – první použití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7 – první transplantace lidského srdce – Jihoafrická repu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9 – první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76 – první implantace LVAD, použitého pro překlenutí doby do transpla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1 – druhá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3 – realizováno 50,000 operací na otevřeném srdci s využitím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8 – první použití čerpadla Hemo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1 – schválení prvního bateriemi napájeného podpůrného čerpadla LVAD a jeho úspěšná im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2 – dosaženo 80,000 operací na otevřeném srdci s využitím mimotělního obě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4 - schválení podpůrného čerpadla LVAD pro domácí použití do trans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5 – pacient čekající na transplantaci s podpůrným čerpadlem HeartMate nastupuje do zaměst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3 – první aplikace TAH v ČR – pacient po měsíci úspěšného provozu podstoupil transplantaci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Mimotělní o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105264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začátku šedesátých let umožňuje operace na otevřeném srdci. Zásadním průlomem bylo vhodné čerpadlo, které nesmí obsahovat žádné vzájemně posuvné části z důvodu hemolýz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436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2131920"/>
            <a:ext cx="806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ladičkové – hadicové čerpad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utor de Bakey – angl. roller pump) – používané rutinně i ve spojení s dalšími přístroji, vyžadujícími mimotělní cirkulaci krve – oxygenátor (umělá plíce), umělá ledvina.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čerpadl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adice v drážce</a:t>
            </a:r>
            <a:br>
              <a:rPr sz="2000"/>
            </a:br>
            <a:r>
              <a:rPr b="0" lang="cs-CZ" sz="16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ygonová had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8" descr="podpora1"/>
          <p:cNvPicPr/>
          <p:nvPr/>
        </p:nvPicPr>
        <p:blipFill>
          <a:blip r:embed="rId1"/>
          <a:srcRect l="907" t="0" r="0" b="9459"/>
          <a:stretch/>
        </p:blipFill>
        <p:spPr>
          <a:xfrm>
            <a:off x="647640" y="3968640"/>
            <a:ext cx="3932280" cy="24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odpora2"/>
          <p:cNvPicPr/>
          <p:nvPr/>
        </p:nvPicPr>
        <p:blipFill>
          <a:blip r:embed="rId2"/>
          <a:stretch/>
        </p:blipFill>
        <p:spPr>
          <a:xfrm>
            <a:off x="5562720" y="4348080"/>
            <a:ext cx="1962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mimotělního oběhu,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ECMO (extra-corporal membrane oxyge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12" descr="u3v05"/>
          <p:cNvPicPr/>
          <p:nvPr/>
        </p:nvPicPr>
        <p:blipFill>
          <a:blip r:embed="rId1"/>
          <a:srcRect l="0" t="0" r="9374" b="0"/>
          <a:stretch/>
        </p:blipFill>
        <p:spPr>
          <a:xfrm>
            <a:off x="611280" y="1111320"/>
            <a:ext cx="4697280" cy="464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5364000" y="1700280"/>
            <a:ext cx="338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266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při nedostatečné funkci plic: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nedostatečně vyvinuté plíce u novorozenců, slepené plicní sklípky tlakovou traumatizací při porodu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sttraumatická plicní nedostatečnost (poškození plic vniknutím vody při topení, popáleninami, žíravinou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Schéma napojení ECMO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na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2"/>
          <p:cNvSpPr/>
          <p:nvPr/>
        </p:nvSpPr>
        <p:spPr>
          <a:xfrm>
            <a:off x="611280" y="1268280"/>
            <a:ext cx="180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vrat okysličené krve do vzestupné aort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běr krve z horní a dolní duté žíly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231" descr="u3v06"/>
          <p:cNvPicPr/>
          <p:nvPr/>
        </p:nvPicPr>
        <p:blipFill>
          <a:blip r:embed="rId1"/>
          <a:stretch/>
        </p:blipFill>
        <p:spPr>
          <a:xfrm>
            <a:off x="2484360" y="1413000"/>
            <a:ext cx="6064200" cy="4746600"/>
          </a:xfrm>
          <a:prstGeom prst="rect">
            <a:avLst/>
          </a:prstGeom>
          <a:ln w="0">
            <a:noFill/>
          </a:ln>
        </p:spPr>
      </p:pic>
      <p:sp>
        <p:nvSpPr>
          <p:cNvPr id="62" name="Line 232"/>
          <p:cNvSpPr/>
          <p:nvPr/>
        </p:nvSpPr>
        <p:spPr>
          <a:xfrm>
            <a:off x="2268360" y="1773360"/>
            <a:ext cx="2951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33"/>
          <p:cNvSpPr/>
          <p:nvPr/>
        </p:nvSpPr>
        <p:spPr>
          <a:xfrm flipV="1">
            <a:off x="2268360" y="2708280"/>
            <a:ext cx="2232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34"/>
          <p:cNvSpPr/>
          <p:nvPr/>
        </p:nvSpPr>
        <p:spPr>
          <a:xfrm>
            <a:off x="2124000" y="436572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Princip aortokoronárního bypas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331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maro-koronární bypas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lepší dlouhodobá průchodnost, a. mamaria interna má vysoko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zistenci vůči vzniku aterosklerózy)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vytvořené z velké kryté žíly (vena saphena magna) nebo a. radialis, napojené na vzestupnou aortu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obnovují krevní zásobení věnčitých tepen, pokud ještě nedošlo k nekróze příslušné části myokardu (viabilní, hibernovaný myokard, který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kontrahuj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" name="Picture 10" descr="u3v09"/>
          <p:cNvPicPr/>
          <p:nvPr/>
        </p:nvPicPr>
        <p:blipFill>
          <a:blip r:embed="rId1"/>
          <a:stretch/>
        </p:blipFill>
        <p:spPr>
          <a:xfrm>
            <a:off x="3828960" y="949320"/>
            <a:ext cx="4488120" cy="5143680"/>
          </a:xfrm>
          <a:prstGeom prst="rect">
            <a:avLst/>
          </a:prstGeom>
          <a:ln w="0">
            <a:noFill/>
          </a:ln>
        </p:spPr>
      </p:pic>
      <p:sp>
        <p:nvSpPr>
          <p:cNvPr id="69" name="Line 11"/>
          <p:cNvSpPr/>
          <p:nvPr/>
        </p:nvSpPr>
        <p:spPr>
          <a:xfrm>
            <a:off x="3492360" y="1484280"/>
            <a:ext cx="352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3564000" y="2492280"/>
            <a:ext cx="27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3564000" y="2924280"/>
            <a:ext cx="28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564000" y="314172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incip použití aortálního balónku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(IABP – intra-aortic baloon p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11280" y="1339920"/>
            <a:ext cx="33843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 zaváděný z arteria iliaca nebo femorali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klus řízený snímaným EKG pacienta – dvojí účinek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Po uzavření aortální chlopně (začátek diastoly) nafukování balónku omezuje průtok krve aortou – zvýšení prokrvení koronárních tepen a mozku)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Na začátku systoly náhlé odsátí balónku  - podtlakový efekt ulehčuje srdci a přebírá část srdeční prá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Picture 11" descr="u3v15"/>
          <p:cNvPicPr/>
          <p:nvPr/>
        </p:nvPicPr>
        <p:blipFill>
          <a:blip r:embed="rId1"/>
          <a:srcRect l="53520" t="0" r="0" b="8907"/>
          <a:stretch/>
        </p:blipFill>
        <p:spPr>
          <a:xfrm>
            <a:off x="4255920" y="1197000"/>
            <a:ext cx="4203720" cy="50846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>
            <a:off x="3995640" y="155736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3995640" y="2349360"/>
            <a:ext cx="2305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rukční princip čerpadla Hemop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u3v18"/>
          <p:cNvPicPr/>
          <p:nvPr/>
        </p:nvPicPr>
        <p:blipFill>
          <a:blip r:embed="rId1"/>
          <a:srcRect l="5371" t="0" r="5371" b="0"/>
          <a:stretch/>
        </p:blipFill>
        <p:spPr>
          <a:xfrm>
            <a:off x="3203640" y="836640"/>
            <a:ext cx="5078520" cy="5403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95280" y="1268280"/>
            <a:ext cx="23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chlope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rpadl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é axiální čerpadlo (velikosti plnicího pera) se zavádí pomocí katetru do aortální chlopně, kde při 17.000 až 25.000 ot./min čerpá až 3,5 l/min, čímž přebírá až 80% srdeční práce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2700360" y="134100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627280" y="2060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771640" y="2708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700360" y="2708280"/>
            <a:ext cx="468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4-24T09:21:27Z</dcterms:modified>
  <cp:revision>295</cp:revision>
  <dc:subject/>
  <dc:title>Biomechanics  of smooth muscle cells </dc:title>
</cp:coreProperties>
</file>