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2EB-F250-4583-A8D0-BCD3452F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8A9-DC8D-4C90-AA0E-5066645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2F6-305D-45CD-849B-7760C0AC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EB7-F7FE-455C-90B8-5B608C93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E43-5DD9-4B9E-8F76-F3C9BED3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3B6-3EC0-4637-BECA-4E1E4BBB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66C-33AA-49F9-BC1A-E29B6BDC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D94-537B-4ADE-BDEF-0CC872BC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4E5-6094-446F-BE41-37392CA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473-8DF8-4A30-B4E0-DCC53D2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33F-C85A-4266-B5D2-8F5F115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DF7-2670-46FF-867F-68C2106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8FC0-58C8-475F-BF2C-CE7B4DBC41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Karcin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nádor, který se vyskytuje v trávicím nebo dýchacím systému (často v appendixu) a vzniká ze speciálních buněk s endokrinní funkcí. Je na hranici zhoubnosti. Vzácně produkuje látky (např. serotonin), které způsobují „vzdálené“ příznaky (dušnost, zrudnutí, průjmy, chlopenní vadu aj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roton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5-hydroxytryptamin, 5-HT) je biologicky aktivní látka vznikající z aminokyseliny tryptofanu, jeden z biogenních aminů. Má význam též jako neurotransmiter v mozku, je obsažen v krevních destičkách a v dalších tkáních. Zúžením cév napomáhá zastavit krvácení, účastní se zánětlivých a alergických reakcí (zužuje průdušky) i některých dalších chorobných stavů, nadměrná množství někdy produkuje karcinoid. V mozku se jako neurotransmiter účastní též procesů podílejících se na vzniku nálady. Látky, které zasahují do jeho metabolismu v mozku, se užívají v psychiatrii (např. SSRI), v léčbě migrény 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060720" y="22860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6:38Z</dcterms:modified>
  <cp:revision>247</cp:revision>
  <dc:subject/>
  <dc:title>Biomechanics  of smooth muscle cells </dc:title>
</cp:coreProperties>
</file>