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A3B-02EA-4066-AA43-FA4AA207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6E5-4C0E-428E-8887-231B636C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FA1-6F4C-4C8B-9F03-C486BBCD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54F-4FA1-42B7-9076-1DDCF0F4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960-4AE9-4F86-8681-76B9176A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239-91B8-4E3D-8F6A-848AC3F8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D67-99B8-49F8-9E64-32C67FDC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006-246D-4352-BE28-077F309E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C80-D6AA-4BE7-B46B-6A84E850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092-6478-4D9A-81E8-3D7EB916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0A2-4229-4150-99C3-011FC657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58C-014B-4B06-92BC-812CC28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362E-94B3-4D65-A633-C2CA4EB8C6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kler&#243;za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oučásti kardiovaskulární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oustavy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jich základní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176"/>
          <p:cNvSpPr/>
          <p:nvPr/>
        </p:nvSpPr>
        <p:spPr>
          <a:xfrm>
            <a:off x="755640" y="2421000"/>
            <a:ext cx="77724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rd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dvojitá pumpa, která zajišťuje krevní oběh, tedy průtok krve velkým (tělním) i malým (plicním) krevním okruhem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evní cév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tvoří oba krevní okruh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(celkem 96.000km)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jsou trojího druhu: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rterie (tepny) – zajišťují rozvod krve ze srdce do jednotlivých orgánů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ény (žíly) – zajišťují návrat krve z těla do srd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piláry (vlásečnice) – zajišťují látkovou výměnu mezi krví a tkáněmi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ev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kromě základní funkce zásobování tkání kyslíkem a živinami a odvádění zplodin metabolismu zajišťuje řadu dalších funkcí – imunitní, termoregulační, udržování pH tělních tekutin aj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širším smyslu k ní patří ještě další tkáně, orgány a soustavy: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ízní cévy a uzlin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í návrat mízy (lymfy) do krevního oběhu a její filtraci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stní dřeň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e krvetvorbu, především tvorbu erytrocytů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lezi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e likvidaci odumřelých erytrocytů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rvové říze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řídí funkci soustavy a koordinaci s ostatními částmi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71480"/>
          <a:ext cx="8229600" cy="749520"/>
        </p:xfrm>
        <a:graphic>
          <a:graphicData uri="http://schemas.openxmlformats.org/drawingml/2006/table">
            <a:tbl>
              <a:tblPr/>
              <a:tblGrid>
                <a:gridCol w="876240"/>
                <a:gridCol w="1608120"/>
                <a:gridCol w="878040"/>
                <a:gridCol w="1754280"/>
                <a:gridCol w="1118880"/>
                <a:gridCol w="890640"/>
                <a:gridCol w="110340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dce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vní cévy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v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ízní cévy a uzliny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tní dřeň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zin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rvové řízení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219"/>
          <p:cNvSpPr/>
          <p:nvPr/>
        </p:nvSpPr>
        <p:spPr>
          <a:xfrm>
            <a:off x="3808440" y="14270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6" name="Obrázek 6" descr=""/>
          <p:cNvPicPr/>
          <p:nvPr/>
        </p:nvPicPr>
        <p:blipFill>
          <a:blip r:embed="rId1"/>
          <a:stretch/>
        </p:blipFill>
        <p:spPr>
          <a:xfrm>
            <a:off x="4284720" y="220680"/>
            <a:ext cx="4608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Vymezení základních lékařských ob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zabývá se popisem geometrie a topologie (topografická anatomie) tělních orgánů a orgánových soustav, tedy popisem jejich tvaru a rozmístění ve zdravém organis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yzi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procesů, probíhajících ve zdravém organismu a zajišťujících jeho životní funkce. Přitom využívá poznatků biochemie, biofyziky i dalších obo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ist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složení a struktury jednotlivých tkání na mikroskopické úrov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e (patologická anatomie a patologická fyziologie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změnami v anatomii a fyziologii, způsobenými chorobnými procesy v organism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terosklerotické změn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 tepnách, vady a choroby sr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Rozdělení cé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epny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- 26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řed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- 8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é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pénky (arterio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lásečnice (kapiláry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průměr v setinách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íl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vé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lky (venuly 0,0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ře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stomóz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ropojení mezi různými větvemi tepenné nebo žilní soustavy, vytvářející možnosti obtokových 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rteriovenóz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stomóz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římé propojení mezi tepnami a žilami silnější než kapiláry – slouží regulaci průtoku a tlaku k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Schema kapilárního řeč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1285920"/>
            <a:ext cx="74278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kový periferní odpor tělního oběhu 77-150 MPa.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kový periferní odpor plicního oběhu 2-12 MPa.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ěnný průtočný odpor tepen je ovlivňován aktivním chováním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alové složky tkáně ve stěně tepn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alový tonus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ekapilární sfinkte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ovenózní anastomó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Obrázek 4" descr="anastomózy.JPG"/>
          <p:cNvPicPr/>
          <p:nvPr/>
        </p:nvPicPr>
        <p:blipFill>
          <a:blip r:embed="rId1"/>
          <a:stretch/>
        </p:blipFill>
        <p:spPr>
          <a:xfrm>
            <a:off x="5557680" y="2201760"/>
            <a:ext cx="3086280" cy="4370400"/>
          </a:xfrm>
          <a:prstGeom prst="rect">
            <a:avLst/>
          </a:prstGeom>
          <a:ln w="0">
            <a:noFill/>
          </a:ln>
        </p:spPr>
      </p:pic>
      <p:sp>
        <p:nvSpPr>
          <p:cNvPr id="54" name="Line 13"/>
          <p:cNvSpPr/>
          <p:nvPr/>
        </p:nvSpPr>
        <p:spPr>
          <a:xfrm flipV="1">
            <a:off x="4049640" y="3714480"/>
            <a:ext cx="36655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7:39Z</dcterms:modified>
  <cp:revision>241</cp:revision>
  <dc:subject/>
  <dc:title>Biomechanics  of smooth muscle cells </dc:title>
</cp:coreProperties>
</file>