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7D7F-9656-4D2E-9038-4F32DBCC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7555-95F0-4E8F-B458-E0157EC8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18D2-68F0-4DBA-8875-59315DBC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F283-0C3D-444F-86DA-2E718D14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5915-906D-4A6A-8034-31EBE666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51F6-4A97-4E92-9118-48F79E48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C7A1-9DD5-4FD8-A884-7D3639F9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C8B2-3CCF-4BC6-84B7-D7B631BE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5849-3E6B-4A2F-9C36-B7F7522C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A284-006E-4808-9D93-FF88B4C8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86E3-9229-464A-8E2A-A57DC7CF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8D44-FE9A-4339-95FC-F408A69B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5391-34CD-41FF-B923-8008B29D4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Optická pinze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39640" y="2349360"/>
            <a:ext cx="4536720" cy="3095280"/>
            <a:chOff x="539640" y="2349360"/>
            <a:chExt cx="4536720" cy="3095280"/>
          </a:xfrm>
        </p:grpSpPr>
        <p:sp>
          <p:nvSpPr>
            <p:cNvPr id="43" name=""/>
            <p:cNvSpPr/>
            <p:nvPr/>
          </p:nvSpPr>
          <p:spPr>
            <a:xfrm>
              <a:off x="3467160" y="3804480"/>
              <a:ext cx="414720" cy="38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</a:t>
              </a:r>
              <a:r>
                <a:rPr b="1" lang="cs-CZ" sz="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rozpty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16920" y="3239640"/>
              <a:ext cx="591120" cy="22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</a:t>
              </a:r>
              <a:r>
                <a:rPr b="1" lang="cs-CZ" sz="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gradi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1"/>
            <a:srcRect l="2708" t="3831" r="1107" b="3339"/>
            <a:stretch/>
          </p:blipFill>
          <p:spPr>
            <a:xfrm>
              <a:off x="588240" y="2553480"/>
              <a:ext cx="4311000" cy="284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559040" y="2382120"/>
              <a:ext cx="517320" cy="49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9640" y="2349360"/>
              <a:ext cx="1335240" cy="70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řipevnění mikrokuliček       na buňk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33840" y="2535120"/>
              <a:ext cx="40104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61560" y="3211200"/>
              <a:ext cx="172404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ulička připevněná ke skleněnému povrch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35640" y="4379400"/>
              <a:ext cx="1335240" cy="58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ulička zachycená v optické past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34160" y="2516040"/>
              <a:ext cx="1335240" cy="70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67000" y="4497840"/>
              <a:ext cx="1896480" cy="32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rytrocy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600" y="4692960"/>
              <a:ext cx="1207080" cy="75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Nezatížen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08440" y="4920480"/>
              <a:ext cx="1034640" cy="49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Zatížen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003640" y="2565360"/>
            <a:ext cx="3384360" cy="2663640"/>
            <a:chOff x="5003640" y="2565360"/>
            <a:chExt cx="3384360" cy="2663640"/>
          </a:xfrm>
        </p:grpSpPr>
        <p:pic>
          <p:nvPicPr>
            <p:cNvPr id="56" name="" descr=""/>
            <p:cNvPicPr/>
            <p:nvPr/>
          </p:nvPicPr>
          <p:blipFill>
            <a:blip r:embed="rId2"/>
            <a:srcRect l="0" t="23247" r="0" b="60426"/>
            <a:stretch/>
          </p:blipFill>
          <p:spPr>
            <a:xfrm>
              <a:off x="5003640" y="2565360"/>
              <a:ext cx="3367080" cy="96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3"/>
            <a:srcRect l="13261" t="76856" r="0" b="0"/>
            <a:stretch/>
          </p:blipFill>
          <p:spPr>
            <a:xfrm>
              <a:off x="5432040" y="3808080"/>
              <a:ext cx="2955960" cy="142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1771560" y="1917720"/>
            <a:ext cx="5600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229360"/>
            <a:ext cx="763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tahování buňky pomocí optické pinze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14:06:45Z</dcterms:created>
  <dc:creator>umt</dc:creator>
  <dc:description/>
  <dc:language>en-US</dc:language>
  <cp:lastModifiedBy>umt</cp:lastModifiedBy>
  <dcterms:modified xsi:type="dcterms:W3CDTF">2007-01-08T14:09:45Z</dcterms:modified>
  <cp:revision>1</cp:revision>
  <dc:subject/>
  <dc:title>Optická pinzeta</dc:title>
</cp:coreProperties>
</file>