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D377-F6B0-46EA-9E0F-AACD741303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je model strukturní diskrétní. Pro modelování mechanického chování cytoskeletu se někdy využívá tzv. tensegritních struktur ,které vykazují podobné mechanické vlastnosti jako buňky. O těchto strukturách si něco řekneme za chví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ADA-C8A5-4C38-A991-FD938349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1B4-FB90-44E5-AE24-4E7948B4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EAB-D3E6-4E11-BD6C-B1A732E2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9D8-0C68-40AB-BDBA-E780CD85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39D-C7E9-46B3-ACF4-6C33C85E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2C2-2C7E-4954-BEE1-5117130C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69C-D4F5-4C14-B4F0-68CFB1B8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BD5-91FC-46E0-A607-426DE2D3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6F5-C006-4E28-98FD-481E8F93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C0C-6E7C-42D2-B276-ABDDDE72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D6A-AB63-4197-89B6-E185D09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B0E-623A-404C-B615-2236A580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8F99-9C0C-489E-80C0-48738C1DC2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333399"/>
                </a:solidFill>
                <a:latin typeface="Arial"/>
              </a:rPr>
              <a:t>Strukturní model – diskrétní </a:t>
            </a:r>
            <a:br>
              <a:rPr sz="3700"/>
            </a:b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(tensegritní soust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ltan C.; Stamenovic D.; Ingber D.E., A Computational Tensegrity Model Predicts Dynamic Rheological Behaviors in Living Cells, Annals of Biomedical Engineering, Vol. 32, No. 4, pp. 520–530,  2004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305160" cy="294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2421" r="0" b="3323"/>
          <a:stretch/>
        </p:blipFill>
        <p:spPr>
          <a:xfrm>
            <a:off x="4724280" y="1981080"/>
            <a:ext cx="3152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4:29:21Z</dcterms:created>
  <dc:creator>Jiří Burša</dc:creator>
  <dc:description/>
  <dc:language>en-US</dc:language>
  <cp:lastModifiedBy>Jiří Burša</cp:lastModifiedBy>
  <dcterms:modified xsi:type="dcterms:W3CDTF">2007-01-04T14:29:45Z</dcterms:modified>
  <cp:revision>1</cp:revision>
  <dc:subject/>
  <dc:title>Strukturní model – diskrétní  (tensegritní soustava)</dc:title>
</cp:coreProperties>
</file>