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6B7-833E-4E67-94A7-4C836ECC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D22-9C6D-44FB-9DCC-455FD130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525-EB13-4EDD-BAEE-00B91F0D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354-E035-4A0E-AD34-6BB4CCF2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863-BF77-42F7-AC18-28BB9F77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7E2-A40B-4B2B-9C5C-34B34A68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447-CEE7-4AAB-96AD-20486969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014-23E1-4A0B-B416-FBDD88C4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43F-EDF7-4F58-B940-AA4CA23A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015-6357-4016-9A09-E0FAE40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412-828C-48F3-AB9B-73EA06FA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E16-A8C5-4B74-81EE-32A4DE2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8387-73E0-421B-8217-300828282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ptický stret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71560" y="1917720"/>
            <a:ext cx="560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92360" y="1700280"/>
            <a:ext cx="5905080" cy="3239280"/>
            <a:chOff x="1692360" y="1700280"/>
            <a:chExt cx="5905080" cy="32392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66520" y="2123280"/>
              <a:ext cx="55868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285280" y="250524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atížená buň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9880" y="2128680"/>
              <a:ext cx="1529280" cy="6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zatížená buň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63120" y="2302920"/>
              <a:ext cx="227232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serový paprse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93520" y="447300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ké vlák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49560" y="447300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ké vlák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92360" y="1700280"/>
              <a:ext cx="5905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47640" y="5229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ahování buňky pomocí optického stretche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4:06:45Z</dcterms:created>
  <dc:creator>umt</dc:creator>
  <dc:description/>
  <dc:language>en-US</dc:language>
  <cp:lastModifiedBy>umt</cp:lastModifiedBy>
  <dcterms:modified xsi:type="dcterms:W3CDTF">2007-01-08T14:12:29Z</dcterms:modified>
  <cp:revision>2</cp:revision>
  <dc:subject/>
  <dc:title>Optická pinzeta</dc:title>
</cp:coreProperties>
</file>