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3FA-76C9-4888-9191-39169F7D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2F1-67CE-430F-A8E6-9866583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4C5-9004-4C95-AB68-82800B9B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02F-F191-4B97-A909-2D97DC7B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92F-8DAC-41DD-B487-C6E5451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D37-8DB3-4E70-944D-ABC01F6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FD4-B115-4B29-A9F0-9A6347AC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0EC-BC39-4A0A-80F8-391AC88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0AF-94B2-4080-9156-FABA71B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656-8AC4-46DD-A0D5-70AD7A5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F60-F8FB-4140-A72E-E8050C9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B94-7D17-4E99-A49E-6445703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3E7-E640-4393-86B0-F200FAA7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rovnání experimentální a simulované křivky -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mogenní nelineárně elast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78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565360"/>
          <a:ext cx="741204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74120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0:27Z</dcterms:created>
  <dc:creator>Jiri Bursa</dc:creator>
  <dc:description/>
  <dc:language>en-US</dc:language>
  <cp:lastModifiedBy>Jiri Bursa</cp:lastModifiedBy>
  <dcterms:modified xsi:type="dcterms:W3CDTF">2007-01-07T10:53:21Z</dcterms:modified>
  <cp:revision>2</cp:revision>
  <dc:subject/>
  <dc:title>Comparison of experimental and simulated curves - homogeneous non-linear elastic model</dc:title>
</cp:coreProperties>
</file>