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DAE8-E985-44FF-857D-89CFCD9DF9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065-6BD9-4F15-B9A1-1F4DD45F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AF1-73F6-4530-B6D9-239C95FF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7D9-9BCF-42A1-A648-85FE0F1E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453-B4C2-4D60-99BE-DCD40912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978-7284-4E28-9048-6FA9042F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478-E289-437E-A1FF-8E47B312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7BD-4C5E-461B-9247-E22BCCC8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23A-CEA1-496B-85E3-07928650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8B0-9F47-4898-9A88-3F1F4242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46D-9623-4B6F-9C8C-DB00ED56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107-32C2-47D7-A003-A909CDC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9C1-DAAB-49F8-A2E1-EF0B161E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2C86-2380-4D5A-812C-9CE3A6B23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Komplexní model buňky</a:t>
            </a: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 tensegritní soustavou modelující cytoskle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55640" y="1484280"/>
            <a:ext cx="7777080" cy="4897440"/>
            <a:chOff x="755640" y="1484280"/>
            <a:chExt cx="7777080" cy="48974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7546" t="6999" r="28074" b="6999"/>
            <a:stretch/>
          </p:blipFill>
          <p:spPr>
            <a:xfrm>
              <a:off x="1512720" y="2146320"/>
              <a:ext cx="2949840" cy="3549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1" name=""/>
            <p:cNvGraphicFramePr/>
            <p:nvPr/>
          </p:nvGraphicFramePr>
          <p:xfrm>
            <a:off x="4457880" y="2467080"/>
            <a:ext cx="2908080" cy="3078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57880" y="2467080"/>
                      <a:ext cx="2908080" cy="30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1512720" y="5670720"/>
              <a:ext cx="6359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r. X: Model hladké svalové buň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(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ádro, cytoplazma a membránový skelet modelovaný skořepinovými prvk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(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ýztužná tensegritní struktura buňky – model hlubokého endoskeletu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12720" y="5076720"/>
              <a:ext cx="4716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57880" y="5076720"/>
              <a:ext cx="469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055160" y="2733840"/>
              <a:ext cx="824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055160" y="2263680"/>
              <a:ext cx="824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55800" y="2263680"/>
              <a:ext cx="47160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55800" y="2733840"/>
              <a:ext cx="70632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341520" y="2381400"/>
              <a:ext cx="471600" cy="12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98720" y="2381400"/>
              <a:ext cx="106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313320" y="2851200"/>
              <a:ext cx="4716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70520" y="2851200"/>
              <a:ext cx="94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627520" y="2146320"/>
              <a:ext cx="47160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8720" y="1674720"/>
              <a:ext cx="15825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membrá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vý  ske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2381400"/>
              <a:ext cx="1295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ytoplas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1280" y="1989000"/>
              <a:ext cx="10605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ád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84720" y="2146320"/>
              <a:ext cx="153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84720" y="1484280"/>
              <a:ext cx="1295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hové čle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88000" y="2205000"/>
              <a:ext cx="14130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lakové čle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5640" y="5734080"/>
              <a:ext cx="77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nsegritní soustava je vložena do kontinuálního modelu buňk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oužití komplexního strukturního modelu pro modelování buňky na podlož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J. McGarry G., Prendergast P.J., A three-dimensional finite element model of an      adherent eukaryotic cell, European cells and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áles,27-34,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omplexní výpočtový model buň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ný komplexní strukturní model buňky je tvořen těmito prv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unečná membrána (sarkolemma) a membránový skelet – modelovány pomocí skořepinových 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y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modelována pomocí 3D solid prvků jako velmi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dro a přilehlé organely modelováno pomocí 3D solid prvků jako méně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luboký cytoskelet - modelovaný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segritní soust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reprezentující síť mikrotubulů a mikro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omplexní strukturní model </a:t>
            </a:r>
            <a:br>
              <a:rPr sz="36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e složitější tensegritní strukturou cytoskel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22200" y="1773360"/>
            <a:ext cx="6805800" cy="4534920"/>
            <a:chOff x="1222200" y="1773360"/>
            <a:chExt cx="6805800" cy="45349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rcRect l="14518" t="5618" r="17192" b="4969"/>
            <a:stretch/>
          </p:blipFill>
          <p:spPr>
            <a:xfrm>
              <a:off x="4908600" y="1952280"/>
              <a:ext cx="3060360" cy="370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rcRect l="15707" t="5744" r="16792" b="3705"/>
            <a:stretch/>
          </p:blipFill>
          <p:spPr>
            <a:xfrm>
              <a:off x="1505520" y="1773360"/>
              <a:ext cx="3230280" cy="39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222200" y="177804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z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89200" y="561204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á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2960" y="5616000"/>
              <a:ext cx="19850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ánový 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41240" y="177336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22200" y="2121840"/>
              <a:ext cx="9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14360" y="2121840"/>
              <a:ext cx="14148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1240" y="2121840"/>
              <a:ext cx="85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92280" y="2121840"/>
              <a:ext cx="2268360" cy="12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340880" y="2121840"/>
              <a:ext cx="850680" cy="10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9200" y="596088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214360" y="3864960"/>
              <a:ext cx="850680" cy="20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42960" y="5956920"/>
              <a:ext cx="155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617080" y="4561920"/>
              <a:ext cx="425160" cy="13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2400" y="5608440"/>
              <a:ext cx="170136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inové recep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2400" y="5956920"/>
              <a:ext cx="170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191920" y="4039560"/>
              <a:ext cx="141480" cy="19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334120" y="2782440"/>
              <a:ext cx="432360" cy="31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Tvorba komplexního strukturního modelu </a:t>
            </a:r>
            <a:br>
              <a:rPr sz="3600"/>
            </a:b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buňky přilnuté k podlož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4195" t="2940" r="14363" b="2450"/>
          <a:stretch/>
        </p:blipFill>
        <p:spPr>
          <a:xfrm>
            <a:off x="1076400" y="2205000"/>
            <a:ext cx="2558880" cy="25592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139400" y="1916280"/>
            <a:ext cx="2424240" cy="1871280"/>
            <a:chOff x="1139400" y="1916280"/>
            <a:chExt cx="2424240" cy="1871280"/>
          </a:xfrm>
        </p:grpSpPr>
        <p:sp>
          <p:nvSpPr>
            <p:cNvPr id="101" name=""/>
            <p:cNvSpPr/>
            <p:nvPr/>
          </p:nvSpPr>
          <p:spPr>
            <a:xfrm flipH="1">
              <a:off x="1375560" y="25048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982880" y="2143800"/>
              <a:ext cx="14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56200" y="19162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727000" y="212112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344760" y="25218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46600" y="27730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61840" y="31284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755000" y="2756160"/>
              <a:ext cx="14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139400" y="31482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757160" y="35038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60280" y="351972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rcRect l="11367" t="27078" r="11872" b="27260"/>
          <a:stretch/>
        </p:blipFill>
        <p:spPr>
          <a:xfrm>
            <a:off x="4572000" y="1628640"/>
            <a:ext cx="3745080" cy="1571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20030" t="41985" r="17572" b="15113"/>
          <a:stretch/>
        </p:blipFill>
        <p:spPr>
          <a:xfrm>
            <a:off x="4067280" y="3760920"/>
            <a:ext cx="48258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01:12Z</dcterms:created>
  <dc:creator>Jiri Bursa</dc:creator>
  <dc:description/>
  <dc:language>en-US</dc:language>
  <cp:lastModifiedBy>Jiří Burša</cp:lastModifiedBy>
  <dcterms:modified xsi:type="dcterms:W3CDTF">2009-03-31T14:13:17Z</dcterms:modified>
  <cp:revision>9</cp:revision>
  <dc:subject/>
  <dc:title>Komplexní model buňky  s tensegritní soustavou modelující cytosklelet</dc:title>
</cp:coreProperties>
</file>