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wmf" ContentType="image/x-wmf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6DF2-13F8-4F0F-8507-DC639CBCBD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5737-397F-4B8F-BF5F-694D5C328E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khle vypadá cytoskelet ve skutečno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66B6-6CCF-4C56-8541-93EA6317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DE0-C349-41F0-8D9D-B42E61B4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E5FB-D7B3-4FB8-9357-D7209B56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DBD-4319-4CC7-9548-66CBB8A4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5A2-2201-4A42-8C03-053B9B3E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5DD-6FDC-4B4D-8353-0C24A504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E66-BC4F-4269-9D50-CD567DB3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084-EC6C-48FE-8D2A-D0D25146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2084-8AA5-457B-B199-D9C92E0E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C566-56C8-400C-ADA1-7C255BDE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45C-65B4-47C1-B668-EC5FF374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3CEB-5BB6-40A5-8FF9-52814726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51EC-1ED5-455D-867A-F841A9BEF4D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kolagen-fibrila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Cytoske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0920" y="148392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výztužná struktura buňky, tvořená bílkovinnými vlákny různých druhů, která jsou rozmístěna  v cytoplazmě  a plní zde různé funk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šťují časovou stálost a současně i proměnnost tvaru buňky (tedy její odpor proti deformaci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uží k transportu informací tělem buň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uží k dynamické organizaci cytoplazmy (přesuny organel a chromosomů v buň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možňují pohyb buně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mi prvky cytoskeletu jsou: mikrotubuly, mikrofilamenta a intermediální (střední) filam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Základní klasifikace cytoskele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luboký cytoskel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endoskelet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tvořen převážně mikrotubuly  a intermediálními filamenty napříč celou buňkou. Jeho hlavní funkcí je transport látek a buněčných komponent, opora buňky a účast na jejím děl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rtikální skel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í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n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ch výztužných vláken pod buněčnou membránou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xoskel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íť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lagenn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elastinových a fibronektinových vláken v mimobuněčném prosto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Cytoskelet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- fo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actin_microtubules_02[1]"/>
          <p:cNvPicPr/>
          <p:nvPr/>
        </p:nvPicPr>
        <p:blipFill>
          <a:blip r:embed="rId1"/>
          <a:stretch/>
        </p:blipFill>
        <p:spPr>
          <a:xfrm>
            <a:off x="684360" y="2120760"/>
            <a:ext cx="3887640" cy="3467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4643280" y="2276640"/>
            <a:ext cx="3714840" cy="32335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4643280" y="1628640"/>
            <a:ext cx="36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krofilamenta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ytoskel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ikrotubu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6410" t="0" r="0" b="7401"/>
          <a:stretch/>
        </p:blipFill>
        <p:spPr>
          <a:xfrm>
            <a:off x="4502160" y="4149720"/>
            <a:ext cx="3814920" cy="2093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564320" cy="26478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684360" y="981000"/>
            <a:ext cx="7559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zolované mikrotubu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krotubuly v buň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539640" y="4292640"/>
            <a:ext cx="3816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mikrotubulu – trubice tvořené z molekul tubulin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ký struktura, vyrůstající z centroso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ychlost růstu: cca 0.03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ychlost rozpadu: cca 0.5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  <a:ea typeface="Arial"/>
              </a:rPr>
              <a:t>Remodelace c</a:t>
            </a:r>
            <a:r>
              <a:rPr b="0" lang="en-GB" sz="3600" spc="-1" strike="noStrike">
                <a:solidFill>
                  <a:srgbClr val="333399"/>
                </a:solidFill>
                <a:latin typeface="Arial"/>
                <a:ea typeface="Arial"/>
              </a:rPr>
              <a:t>ytoskelet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  <a:ea typeface="Arial"/>
              </a:rPr>
              <a:t>u </a:t>
            </a:r>
            <a:br>
              <a:rPr sz="3600"/>
            </a:br>
            <a:r>
              <a:rPr b="0" lang="cs-CZ" sz="2400" spc="-1" strike="noStrike">
                <a:solidFill>
                  <a:srgbClr val="333399"/>
                </a:solidFill>
                <a:latin typeface="Arial"/>
                <a:ea typeface="Arial"/>
              </a:rPr>
              <a:t>v hladkých svalových buňk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0504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ebdings"/>
                <a:ea typeface="Webdings"/>
              </a:rPr>
              <a:t>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ní tvary hladkých svalových buně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řetenovitý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přirozený tvar v cévní stěně,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kulov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buňky volně kultivované „in vitro“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plochý paraboloid – buňky kultivované na podlož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změně tvaru buňky probíhá neustálá reorganizace jejího 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toskele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mj. jako odezva na zatížení buňk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Webdings"/>
                <a:ea typeface="Webdings"/>
              </a:rPr>
              <a:t>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zhledem k neustálé remodelaci cytoskeletu lze předpokládat, že jeho deformačně – napěťový stav na začátku každého zatěžovacího procesu je téměř stejný – beznapěťový nebo mírně předepjatý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vislost tuhosti buňky na rychlosti zatěžování je vlivem remodelace cytoskeletu opačná než u většiny makromolekulárních láte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uňka – tužší při nižší rychlosti zatěž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kromolekulární (viskoelastické) látky - tužší při vyšší rychlosti zatěž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3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řenos zatížení cytoskeletem</a:t>
            </a:r>
            <a:br>
              <a:rPr sz="4000"/>
            </a:b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(action at a distance effect) - posuvy při magnetic twisting cyt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4000" y="5827680"/>
            <a:ext cx="806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) s cytoskeletem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) bez cytoskelet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chemicky rozruš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468360" y="1413000"/>
            <a:ext cx="8137440" cy="4464000"/>
            <a:chOff x="468360" y="1413000"/>
            <a:chExt cx="8137440" cy="4464000"/>
          </a:xfrm>
        </p:grpSpPr>
        <p:pic>
          <p:nvPicPr>
            <p:cNvPr id="66" name="Picture 6" descr=""/>
            <p:cNvPicPr/>
            <p:nvPr/>
          </p:nvPicPr>
          <p:blipFill>
            <a:blip r:embed="rId1"/>
            <a:stretch/>
          </p:blipFill>
          <p:spPr>
            <a:xfrm>
              <a:off x="4537080" y="1413000"/>
              <a:ext cx="4068720" cy="446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7" descr=""/>
            <p:cNvPicPr/>
            <p:nvPr/>
          </p:nvPicPr>
          <p:blipFill>
            <a:blip r:embed="rId2"/>
            <a:srcRect l="0" t="0" r="19715" b="0"/>
            <a:stretch/>
          </p:blipFill>
          <p:spPr>
            <a:xfrm>
              <a:off x="468360" y="1647720"/>
              <a:ext cx="3130560" cy="42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8"/>
            <p:cNvSpPr/>
            <p:nvPr/>
          </p:nvSpPr>
          <p:spPr>
            <a:xfrm>
              <a:off x="1067400" y="2006640"/>
              <a:ext cx="508320" cy="654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cs-CZ" sz="16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9"/>
            <p:cNvSpPr/>
            <p:nvPr/>
          </p:nvSpPr>
          <p:spPr>
            <a:xfrm>
              <a:off x="5243400" y="2043000"/>
              <a:ext cx="508320" cy="654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cs-CZ" sz="1600" spc="-1" strike="noStrike">
                  <a:solidFill>
                    <a:srgbClr val="ffff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1994040" y="1429920"/>
              <a:ext cx="847440" cy="43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1"/>
            <p:cNvSpPr/>
            <p:nvPr/>
          </p:nvSpPr>
          <p:spPr>
            <a:xfrm>
              <a:off x="6062760" y="1429920"/>
              <a:ext cx="847440" cy="43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12" descr=""/>
            <p:cNvPicPr/>
            <p:nvPr/>
          </p:nvPicPr>
          <p:blipFill>
            <a:blip r:embed="rId3"/>
            <a:stretch/>
          </p:blipFill>
          <p:spPr>
            <a:xfrm>
              <a:off x="3635640" y="1525320"/>
              <a:ext cx="717480" cy="371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3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řenos zatížení cytoskeletem</a:t>
            </a:r>
            <a:br>
              <a:rPr sz="4000"/>
            </a:b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(action at a distance effect) -1. hlavní napětí ve výpočtovém mode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4000" y="5827680"/>
            <a:ext cx="806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) s cytoskeletem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) bez cytoskelet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2"/>
          <p:cNvGrpSpPr/>
          <p:nvPr/>
        </p:nvGrpSpPr>
        <p:grpSpPr>
          <a:xfrm>
            <a:off x="1625760" y="1557360"/>
            <a:ext cx="5322600" cy="4118040"/>
            <a:chOff x="1625760" y="1557360"/>
            <a:chExt cx="5322600" cy="4118040"/>
          </a:xfrm>
        </p:grpSpPr>
        <p:pic>
          <p:nvPicPr>
            <p:cNvPr id="76" name="Picture 13" descr="pop009"/>
            <p:cNvPicPr/>
            <p:nvPr/>
          </p:nvPicPr>
          <p:blipFill>
            <a:blip r:embed="rId1"/>
            <a:srcRect l="16898" t="29579" r="17469" b="29400"/>
            <a:stretch/>
          </p:blipFill>
          <p:spPr>
            <a:xfrm>
              <a:off x="1625760" y="1557360"/>
              <a:ext cx="227844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14" descr="pop003"/>
            <p:cNvPicPr/>
            <p:nvPr/>
          </p:nvPicPr>
          <p:blipFill>
            <a:blip r:embed="rId2"/>
            <a:srcRect l="15522" t="31558" r="16976" b="31601"/>
            <a:stretch/>
          </p:blipFill>
          <p:spPr>
            <a:xfrm>
              <a:off x="4459320" y="1675800"/>
              <a:ext cx="2238840" cy="9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5" descr="pop010"/>
            <p:cNvPicPr/>
            <p:nvPr/>
          </p:nvPicPr>
          <p:blipFill>
            <a:blip r:embed="rId3"/>
            <a:srcRect l="16132" t="8124" r="17725" b="3397"/>
            <a:stretch/>
          </p:blipFill>
          <p:spPr>
            <a:xfrm>
              <a:off x="1625760" y="2859840"/>
              <a:ext cx="2327760" cy="23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6" descr="pop002"/>
            <p:cNvPicPr/>
            <p:nvPr/>
          </p:nvPicPr>
          <p:blipFill>
            <a:blip r:embed="rId4"/>
            <a:srcRect l="16946" t="4843" r="18048" b="7816"/>
            <a:stretch/>
          </p:blipFill>
          <p:spPr>
            <a:xfrm>
              <a:off x="4459320" y="2859840"/>
              <a:ext cx="2260800" cy="228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7" descr="pop000"/>
            <p:cNvPicPr/>
            <p:nvPr/>
          </p:nvPicPr>
          <p:blipFill>
            <a:blip r:embed="rId5"/>
            <a:srcRect l="7745" t="89282" r="5703" b="849"/>
            <a:stretch/>
          </p:blipFill>
          <p:spPr>
            <a:xfrm>
              <a:off x="1625760" y="5221440"/>
              <a:ext cx="5322600" cy="4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8"/>
            <p:cNvSpPr/>
            <p:nvPr/>
          </p:nvSpPr>
          <p:spPr>
            <a:xfrm>
              <a:off x="1625760" y="4872960"/>
              <a:ext cx="353880" cy="35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9"/>
            <p:cNvSpPr/>
            <p:nvPr/>
          </p:nvSpPr>
          <p:spPr>
            <a:xfrm>
              <a:off x="4340880" y="4865760"/>
              <a:ext cx="353880" cy="35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3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řenos zatížení cytoskeletem</a:t>
            </a:r>
            <a:br>
              <a:rPr sz="4000"/>
            </a:b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(action at a distance effect) </a:t>
            </a:r>
            <a:br>
              <a:rPr sz="1800"/>
            </a:b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-1. hlavní napětí ve výpočtovém modelu zkoušky vtlač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pop018"/>
          <p:cNvPicPr/>
          <p:nvPr/>
        </p:nvPicPr>
        <p:blipFill>
          <a:blip r:embed="rId1"/>
          <a:srcRect l="18515" t="5716" r="19248" b="10853"/>
          <a:stretch/>
        </p:blipFill>
        <p:spPr>
          <a:xfrm>
            <a:off x="2265480" y="1800360"/>
            <a:ext cx="45385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4:12:39Z</dcterms:created>
  <dc:creator>Jiri Bursa</dc:creator>
  <dc:description/>
  <dc:language>en-US</dc:language>
  <cp:lastModifiedBy>Jiří Burša</cp:lastModifiedBy>
  <dcterms:modified xsi:type="dcterms:W3CDTF">2011-11-09T14:32:12Z</dcterms:modified>
  <cp:revision>22</cp:revision>
  <dc:subject/>
  <dc:title>Cytoskelet  výztužná struktura buňky, tvořená především mikrotubuly a mikrofilamenty</dc:title>
</cp:coreProperties>
</file>