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F03-25D3-4DC3-A226-5DCBFA55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427-636A-412C-A8DE-6E2A1F38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3E6-6E64-463F-AB8C-8AFFAC42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EDE-AB8F-4B23-B2DE-F6842D1F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C94-9812-4976-8D9C-B979BE77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567-D42B-4D00-9964-30A6EEF0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C54-DECF-43D9-A0B4-41C14839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FAC-8584-476C-8AE4-D2D3BD0B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B7B-9590-44D2-BB36-57D3C3F4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8E5-EE81-4CC2-9B95-2105FB1F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70E-53B8-4464-BFFD-D135E805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CB0-4C6B-49AA-9C5C-3C552DA9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6453-6025-4288-9DD7-D57B1026A8F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agnetick&#225;_pinzeta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Kontinuální strukturní model - příklad (</a:t>
            </a:r>
            <a:r>
              <a:rPr b="0" lang="cs-CZ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gnetická pinzeta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1258920" y="2276640"/>
            <a:ext cx="7859160" cy="3159000"/>
            <a:chOff x="1258920" y="2276640"/>
            <a:chExt cx="7859160" cy="3159000"/>
          </a:xfrm>
        </p:grpSpPr>
        <p:pic>
          <p:nvPicPr>
            <p:cNvPr id="43" name="Picture 8" descr=""/>
            <p:cNvPicPr/>
            <p:nvPr/>
          </p:nvPicPr>
          <p:blipFill>
            <a:blip r:embed="rId2"/>
            <a:stretch/>
          </p:blipFill>
          <p:spPr>
            <a:xfrm>
              <a:off x="1258920" y="2276640"/>
              <a:ext cx="7846920" cy="31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9"/>
            <p:cNvSpPr/>
            <p:nvPr/>
          </p:nvSpPr>
          <p:spPr>
            <a:xfrm>
              <a:off x="2136960" y="2523960"/>
              <a:ext cx="336276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Magnetická kulička Φ 4.5 µ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0"/>
            <p:cNvSpPr/>
            <p:nvPr/>
          </p:nvSpPr>
          <p:spPr>
            <a:xfrm>
              <a:off x="7048800" y="3487680"/>
              <a:ext cx="206928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Membrá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1"/>
            <p:cNvSpPr/>
            <p:nvPr/>
          </p:nvSpPr>
          <p:spPr>
            <a:xfrm>
              <a:off x="7055280" y="4115160"/>
              <a:ext cx="154908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ytoplaz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6:00:03Z</dcterms:created>
  <dc:creator>Jiri Bursa</dc:creator>
  <dc:description/>
  <dc:language>en-US</dc:language>
  <cp:lastModifiedBy>Jiří Burša</cp:lastModifiedBy>
  <dcterms:modified xsi:type="dcterms:W3CDTF">2012-03-28T08:17:01Z</dcterms:modified>
  <cp:revision>3</cp:revision>
  <dc:subject/>
  <dc:title>Kontinuální strukturní model - příklad (magnetická pinzeta)</dc:title>
</cp:coreProperties>
</file>