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7.jpeg" ContentType="image/jpeg"/>
  <Override PartName="/ppt/media/image9.png" ContentType="image/png"/>
  <Override PartName="/ppt/media/image16.png" ContentType="image/pn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857-DFAD-4AAA-9D3C-87A72051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616-1E77-4AF5-84A5-E22FFC10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555-BDB0-4B84-9016-77B12937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120-9D80-4C31-BBEB-C0569F4D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AD0-6E80-4F6E-BFF7-732C8A1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29F-76B8-4919-B318-1F1248CD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8B2-3955-4410-9FB1-5968FE62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B29-4A69-481F-899B-3841D5F4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035-81B3-4B11-95E0-19479515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2C0-973E-4350-918E-843B9EF8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C50-93BC-42DA-A137-2AD40C3E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FA2-BDFE-45C7-A14C-379A7EB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2249-CECA-48E8-BD39-5419894F71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560" y="189000"/>
            <a:ext cx="3249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Typy cévních náh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41148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iologické náhr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ut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omo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a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tero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l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xen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Umělé náhrad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cévní proté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poréz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réz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k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let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lad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rapov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ráběné tkáňovým inženýrstvím (tissue engineered graf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ívají se převážně pro náhrady tepen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994280" y="1341360"/>
            <a:ext cx="3322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větlení termínů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ut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cévní štěp odebraný z vlastního organismu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ll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štěp odebraný z jiného člověka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xen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štěp odebraný z organismu jiného živočišného druhu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omo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o náhradu tepny použit štěp ze stejného orgánu (tepny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na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o náhradu tepny použit štěp ze podobného orgánu (žíly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etero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ro náhradu tepny použit štěp z jiného orgánu (např. střeva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tissue engineered grafts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imární náhrada (nosná mřížka – umělá nebo z pupečníkové žíly) se naočkuje kmenovými buňkami pacienta a v bioreaktoru se zatěžuje pulzujícím tlakem a smykovými silami, aby se remodelací zvýšila její tuhost a pevnost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"/>
          <a:stretch/>
        </p:blipFill>
        <p:spPr>
          <a:xfrm>
            <a:off x="3565440" y="115920"/>
            <a:ext cx="52545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technik </a:t>
            </a:r>
            <a:br>
              <a:rPr sz="32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zlepšujících reologické poměry v anastom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6" name="Picture 8" descr="nahrady7"/>
          <p:cNvPicPr/>
          <p:nvPr/>
        </p:nvPicPr>
        <p:blipFill>
          <a:blip r:embed="rId1"/>
          <a:stretch/>
        </p:blipFill>
        <p:spPr>
          <a:xfrm>
            <a:off x="3164040" y="1636560"/>
            <a:ext cx="52243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spojení tepen a cévních náhrad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„koncem ke konc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0" name="Picture 6" descr="Image4"/>
          <p:cNvPicPr/>
          <p:nvPr/>
        </p:nvPicPr>
        <p:blipFill>
          <a:blip r:embed="rId1"/>
          <a:srcRect l="36695" t="49950" r="6880" b="28305"/>
          <a:stretch/>
        </p:blipFill>
        <p:spPr>
          <a:xfrm>
            <a:off x="0" y="2287440"/>
            <a:ext cx="5791320" cy="308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mage3"/>
          <p:cNvPicPr/>
          <p:nvPr/>
        </p:nvPicPr>
        <p:blipFill>
          <a:blip r:embed="rId2"/>
          <a:srcRect l="33784" t="16650" r="32475" b="53280"/>
          <a:stretch/>
        </p:blipFill>
        <p:spPr>
          <a:xfrm>
            <a:off x="5291280" y="1700280"/>
            <a:ext cx="3313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Náhrada vzestupné aorty cévní protéz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5" name="Picture 6" descr="kardio4"/>
          <p:cNvPicPr/>
          <p:nvPr/>
        </p:nvPicPr>
        <p:blipFill>
          <a:blip r:embed="rId1"/>
          <a:stretch/>
        </p:blipFill>
        <p:spPr>
          <a:xfrm>
            <a:off x="1843200" y="1341360"/>
            <a:ext cx="5753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struktury a provedení cévních proté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942160" y="1773360"/>
            <a:ext cx="186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uktura tkané cévní proté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040440" y="3263760"/>
            <a:ext cx="2419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uktura pletené cévní proté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3779640" y="1989000"/>
            <a:ext cx="21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3564000" y="3500280"/>
            <a:ext cx="2448000" cy="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084720" y="4941720"/>
            <a:ext cx="266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Tvar vrapované cévní protézy, odolné proti zalomení při ohýb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4284720" y="5157720"/>
            <a:ext cx="1727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16" descr="nahrady1"/>
          <p:cNvPicPr/>
          <p:nvPr/>
        </p:nvPicPr>
        <p:blipFill>
          <a:blip r:embed="rId1"/>
          <a:stretch/>
        </p:blipFill>
        <p:spPr>
          <a:xfrm>
            <a:off x="684360" y="1557360"/>
            <a:ext cx="3024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nahrady10001"/>
          <p:cNvPicPr/>
          <p:nvPr/>
        </p:nvPicPr>
        <p:blipFill>
          <a:blip r:embed="rId2"/>
          <a:stretch/>
        </p:blipFill>
        <p:spPr>
          <a:xfrm>
            <a:off x="611280" y="3000240"/>
            <a:ext cx="2881080" cy="166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nahrady10002"/>
          <p:cNvPicPr/>
          <p:nvPr/>
        </p:nvPicPr>
        <p:blipFill>
          <a:blip r:embed="rId3"/>
          <a:stretch/>
        </p:blipFill>
        <p:spPr>
          <a:xfrm>
            <a:off x="782640" y="4724280"/>
            <a:ext cx="34290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lastnosti cévních náh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a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 nutná pro fixaci a výživu neointimy. Větší pórozita zlepšuje vhojení protéz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vantifikuje se měřením propustnosti protézy pro vodu přes 1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za 1 minutu při tlaku 120 mm H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y některých cévních proté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kan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a Edwardsova – 3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 prakticky nepropustná pro kr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leten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VÚP – 1000-400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tné předsrážení v krvi paci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používají ještě poréznější úplet (5000-2000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,  nelze utěsnit předsrážením. U nich se pak rozlišuje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3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mplantač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3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iologick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trvalá, po vstřebání vstřebatelných slož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eriliza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se provád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teplotou (autoklávy) u cévních protéz nel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ozáření je u cévních protéz nejvhodněj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chemicky (např. etylénoxid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0" y="4437000"/>
            <a:ext cx="4103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plet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lagenní samonosná trubi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lagenní trubice se postupně vstřebává, doba vstřebávání se prodlužuje vytvrzováním kolagen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9" name="Picture 6" descr="nahrady4"/>
          <p:cNvPicPr/>
          <p:nvPr/>
        </p:nvPicPr>
        <p:blipFill>
          <a:blip r:embed="rId1"/>
          <a:stretch/>
        </p:blipFill>
        <p:spPr>
          <a:xfrm>
            <a:off x="1042920" y="4797360"/>
            <a:ext cx="2097000" cy="1739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324000" y="4292640"/>
            <a:ext cx="3322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mbinovaná cévní protéz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2627280" y="4653000"/>
            <a:ext cx="187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H="1">
            <a:off x="2916000" y="5229360"/>
            <a:ext cx="158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Mechanické vlastnosti cévních proté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dul pružnost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6 – 60 MPa podle typu prot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tézy VÜP 23-27 MPa, významná hystereze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host v obvodovém směru výrazně vyšší než u tepny – otázka příčin zarůstání protéz  malých průměrů (z tohoto důvodu se používají většinou od průměru cca 6 mm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lagenní samonosné tr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mbinovaných proté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ytvrzen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vnost 10MP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žnost 100-2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tvrze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vnost 25-40 MP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žnost 2-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nahrady5"/>
          <p:cNvPicPr/>
          <p:nvPr/>
        </p:nvPicPr>
        <p:blipFill>
          <a:blip r:embed="rId1"/>
          <a:stretch/>
        </p:blipFill>
        <p:spPr>
          <a:xfrm>
            <a:off x="4572000" y="2827440"/>
            <a:ext cx="3486240" cy="3554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5003640" y="2421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klad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formačně napěťové křivk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évní protézy (DK 1n)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Závislost modulů pružnosti různých cévních protéz </a:t>
            </a:r>
            <a:br>
              <a:rPr sz="28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na frekvenci zatě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64000" y="2349360"/>
            <a:ext cx="3394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ávislost modulu pružnosti na frekvenci zatěžová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9" name="Picture 6" descr="nahrady6"/>
          <p:cNvPicPr/>
          <p:nvPr/>
        </p:nvPicPr>
        <p:blipFill>
          <a:blip r:embed="rId1"/>
          <a:stretch/>
        </p:blipFill>
        <p:spPr>
          <a:xfrm>
            <a:off x="4954680" y="1197000"/>
            <a:ext cx="3578040" cy="568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protéza Ra VÚP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– protéza Gore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 – protéza DK 1n  VÚP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7,8 – protézy M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ÚP B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mechanické vlastnosti proté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ngenciální tuhost srovnatelná s tep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ízká podélná tuhost – namáhání ste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soká torzní tuhost pro zavádění tunelátorem (nebezpečí podélného překrouc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ížení rizika ztráty tvarové stability pro tepny výrazně ohýbané - vrap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Typy spojení cév a cévních ná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4360" y="141444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konci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straně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anou ke stra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tretch/>
        </p:blipFill>
        <p:spPr>
          <a:xfrm>
            <a:off x="611280" y="2224080"/>
            <a:ext cx="2298600" cy="329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"/>
          <p:cNvPicPr/>
          <p:nvPr/>
        </p:nvPicPr>
        <p:blipFill>
          <a:blip r:embed="rId2"/>
          <a:stretch/>
        </p:blipFill>
        <p:spPr>
          <a:xfrm>
            <a:off x="3132000" y="2224080"/>
            <a:ext cx="2627280" cy="3220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2832120" cy="316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9"/>
          <p:cNvSpPr/>
          <p:nvPr/>
        </p:nvSpPr>
        <p:spPr>
          <a:xfrm>
            <a:off x="900000" y="5516640"/>
            <a:ext cx="792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konci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- průměr protézy se volí 1,2 – 1,5-krát větší než průměr tepny (menší deformace, zarůstání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použití žilních bypassů a umělých cévních náhrad u povrchové stehenní tep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2" name="Picture 6" descr="Image1"/>
          <p:cNvPicPr/>
          <p:nvPr/>
        </p:nvPicPr>
        <p:blipFill>
          <a:blip r:embed="rId1"/>
          <a:srcRect l="0" t="8325" r="0" b="26640"/>
          <a:stretch/>
        </p:blipFill>
        <p:spPr>
          <a:xfrm>
            <a:off x="539640" y="1349280"/>
            <a:ext cx="4121280" cy="5104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365800" y="1557360"/>
            <a:ext cx="194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Umělá cévní náhrada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89480" y="3263760"/>
            <a:ext cx="2419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Neprůchodná tepna</a:t>
            </a:r>
            <a:r>
              <a:rPr b="0" lang="cs-CZ" sz="2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292720" y="414972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Žilní bypas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Line 10"/>
          <p:cNvSpPr/>
          <p:nvPr/>
        </p:nvSpPr>
        <p:spPr>
          <a:xfrm flipH="1">
            <a:off x="3780000" y="1844640"/>
            <a:ext cx="158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3564000" y="357336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H="1">
            <a:off x="3851280" y="436572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364000" y="2421000"/>
            <a:ext cx="1943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pojení koncem ke konc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292720" y="494172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pojení koncem ke stra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H="1" flipV="1">
            <a:off x="3708360" y="4868640"/>
            <a:ext cx="151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H="1">
            <a:off x="3924000" y="2565360"/>
            <a:ext cx="143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připojení cévních náhrad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„koncem ke stran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6" name="Picture 12" descr="Image2"/>
          <p:cNvPicPr/>
          <p:nvPr/>
        </p:nvPicPr>
        <p:blipFill>
          <a:blip r:embed="rId1"/>
          <a:srcRect l="29814" t="49950" r="6880" b="0"/>
          <a:stretch/>
        </p:blipFill>
        <p:spPr>
          <a:xfrm>
            <a:off x="1041480" y="1268280"/>
            <a:ext cx="4610160" cy="5015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4818240" y="5681520"/>
            <a:ext cx="3714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Zúžení tepny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nevhodným provedení spoj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2843280" y="6021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ýpočtový model </a:t>
            </a:r>
            <a:br>
              <a:rPr sz="32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rozložení rychlostí proudění za anastomóz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Picture 6" descr="nahrady8"/>
          <p:cNvPicPr/>
          <p:nvPr/>
        </p:nvPicPr>
        <p:blipFill>
          <a:blip r:embed="rId1"/>
          <a:stretch/>
        </p:blipFill>
        <p:spPr>
          <a:xfrm>
            <a:off x="1258920" y="1355760"/>
            <a:ext cx="6192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0:33Z</dcterms:modified>
  <cp:revision>274</cp:revision>
  <dc:subject/>
  <dc:title>Biomechanics  of smooth muscle cells </dc:title>
</cp:coreProperties>
</file>