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D05E-C90B-4967-88D2-127FB270A6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případ nestruktutního modelu, v tomto případě se jedná o výpočtovou simulaci aspiračního testu mikropipet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3F3-9198-4D6A-AFA7-AC235272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D3F-428B-48B4-A0AE-0577A95C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156-1358-40F5-A490-4A48F15A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A8B-8B6D-4502-BF78-F3D2B474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3EBF-DA81-45D5-80A5-8FEF30F1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BA4-7F6E-4390-A695-43196A1A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9DA-FE3B-4B36-ABD1-67FB2022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18E-7B3C-4D1D-91C1-57275EFF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77D-C351-4466-8282-465AADFB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A2AC-BF37-4529-BD3E-8015C517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223-9E5D-4E19-87DC-9FA6AFB7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3CF-E239-495B-8B21-37634572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9B82-11E3-4A46-98F9-0358E5C858F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Fotografie aspirační zkoušk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555588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rickey, W., F. Baaijens, T. Laursen, L. Alexopoulos, and F. Guilak., Determination of the Poisson’s ratio of the cell: Recovery properties of chondrocytes after release from complete micropipette aspiration. J. Biomechanics, 2004.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23403"/>
          <a:stretch/>
        </p:blipFill>
        <p:spPr>
          <a:xfrm>
            <a:off x="766800" y="1606680"/>
            <a:ext cx="7334280" cy="41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estrukturní MKP model aspirační zkouš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6014" t="20522" r="0" b="0"/>
          <a:stretch/>
        </p:blipFill>
        <p:spPr>
          <a:xfrm>
            <a:off x="112680" y="1346040"/>
            <a:ext cx="4819680" cy="301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75360" y="3173400"/>
            <a:ext cx="3429000" cy="3135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76720" y="1916280"/>
            <a:ext cx="2087640" cy="95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deformovaná MKP sí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4924440"/>
            <a:ext cx="208764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formovaná MKP síť v mikropipe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3:26:30Z</dcterms:created>
  <dc:creator>Jiří Burša</dc:creator>
  <dc:description/>
  <dc:language>en-US</dc:language>
  <cp:lastModifiedBy>Jiri Bursa</cp:lastModifiedBy>
  <dcterms:modified xsi:type="dcterms:W3CDTF">2007-01-07T14:42:07Z</dcterms:modified>
  <cp:revision>4</cp:revision>
  <dc:subject/>
  <dc:title>Nestrukturní model Modelování aspirační zkoušky</dc:title>
</cp:coreProperties>
</file>