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0DD-431F-4C13-A5CB-299BFF08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50B-1C84-4076-A8DF-7BE927B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89E-9772-4BAB-803D-2F8DBFC7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826-6AA5-4BBD-9D6B-7AC5FBE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F23-6052-4A3B-B6EA-1518344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B4C-FA55-47C8-B97A-1E16DE6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C39-E887-46B0-979C-00D8371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32B-F49B-4A6F-B826-0011081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D2E-DF6F-4CCC-B51E-30B771A2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933-72B2-4063-8AB3-1889340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D36-628D-4432-BD4B-AD21FFD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31D-16F8-4FD6-B29C-91F3BFA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4A3-DBF1-4C91-A162-D34F3AF002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arcinoid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Chlopenní srdeční v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typy vad chlop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nóz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zmenšení průtočného průřezu při otevření chlopně – nedokonalé otevírání chlop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suficienc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domykavost) - nedokonalé uzavírání chlopně – vyvolává zpětný tok krve (regurgita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íčiny chlopenních v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genitální (vroze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ekční endokarditida (záně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vmatický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generativní změny spojené s kalcifik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ce kořene aorty nebo plíc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arcinoid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uroendokrinní ná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schemické (ruptura papilárního svalu po infarktu myokar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umatické – mechanické pora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jev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enokardie (bolest v srdeční krajině při náma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uš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uchy sinusového rytmu - fibrilace sí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oky dolních konč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ětšení j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284720" y="5373720"/>
            <a:ext cx="446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Umělá srdeční chlopeň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Björk-Sh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3" name="Picture 7" descr="chlopen6"/>
          <p:cNvPicPr/>
          <p:nvPr/>
        </p:nvPicPr>
        <p:blipFill>
          <a:blip r:embed="rId1"/>
          <a:stretch/>
        </p:blipFill>
        <p:spPr>
          <a:xfrm>
            <a:off x="4456080" y="1025640"/>
            <a:ext cx="4292640" cy="50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dubna2"/>
          <p:cNvPicPr/>
          <p:nvPr/>
        </p:nvPicPr>
        <p:blipFill>
          <a:blip r:embed="rId2"/>
          <a:srcRect l="0" t="30339" r="75744" b="11515"/>
          <a:stretch/>
        </p:blipFill>
        <p:spPr>
          <a:xfrm>
            <a:off x="703440" y="1197000"/>
            <a:ext cx="3581280" cy="3490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68360" y="5157720"/>
            <a:ext cx="460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některých provedení těchto chlopní (velkých mitrálních) docházelo (s pravděpodobností 2-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na rok života) k odlomení vtokové vzpěry – již se nepoužívaj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Umělé srdeční chlopně diskové</a:t>
            </a: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01800" y="1197000"/>
            <a:ext cx="201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5640" y="479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xtilní prstene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0" name="Picture 6" descr="u3v12"/>
          <p:cNvPicPr/>
          <p:nvPr/>
        </p:nvPicPr>
        <p:blipFill>
          <a:blip r:embed="rId1"/>
          <a:stretch/>
        </p:blipFill>
        <p:spPr>
          <a:xfrm>
            <a:off x="635040" y="1538280"/>
            <a:ext cx="3865680" cy="304308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1042920" y="342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3132000" y="3715920"/>
            <a:ext cx="64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059280" y="155736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4" name="Picture 10" descr="chlopen8"/>
          <p:cNvPicPr/>
          <p:nvPr/>
        </p:nvPicPr>
        <p:blipFill>
          <a:blip r:embed="rId2"/>
          <a:stretch/>
        </p:blipFill>
        <p:spPr>
          <a:xfrm>
            <a:off x="4600440" y="1568520"/>
            <a:ext cx="3787920" cy="301284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 flipV="1">
            <a:off x="3780000" y="3933360"/>
            <a:ext cx="20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55640" y="1052640"/>
            <a:ext cx="10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ě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403280" y="141300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403280" y="1413000"/>
            <a:ext cx="647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5640" y="566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jörk-Shiley – modifikovan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al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Umělá srdeční chlopeň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kapko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á</a:t>
            </a:r>
            <a:br>
              <a:rPr sz="3600"/>
            </a:b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Druckmüller-Dominik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55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ličkov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pkov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Picture 13" descr="2dubna2"/>
          <p:cNvPicPr/>
          <p:nvPr/>
        </p:nvPicPr>
        <p:blipFill>
          <a:blip r:embed="rId1"/>
          <a:stretch/>
        </p:blipFill>
        <p:spPr>
          <a:xfrm>
            <a:off x="320760" y="1844640"/>
            <a:ext cx="8643960" cy="3514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324000" y="5661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pková chlopeň neuspěla, nevýhody převažovaly nad hydrodynamickými přednostm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125360"/>
            <a:ext cx="777708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ulistá (St. Jude Medical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rotéza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5157720"/>
            <a:ext cx="41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9" name="Picture 7" descr="u3v13"/>
          <p:cNvPicPr/>
          <p:nvPr/>
        </p:nvPicPr>
        <p:blipFill>
          <a:blip r:embed="rId1"/>
          <a:stretch/>
        </p:blipFill>
        <p:spPr>
          <a:xfrm>
            <a:off x="611280" y="1557360"/>
            <a:ext cx="428940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 flipV="1">
            <a:off x="1690560" y="4508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700360" y="4292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V="1">
            <a:off x="900000" y="3573360"/>
            <a:ext cx="1008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6732720" y="429264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4" name="Picture 13" descr="u3v14"/>
          <p:cNvPicPr/>
          <p:nvPr/>
        </p:nvPicPr>
        <p:blipFill>
          <a:blip r:embed="rId2"/>
          <a:srcRect l="5187" t="0" r="10375" b="0"/>
          <a:stretch/>
        </p:blipFill>
        <p:spPr>
          <a:xfrm>
            <a:off x="5003640" y="1557360"/>
            <a:ext cx="3576960" cy="36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4859280" y="5518080"/>
            <a:ext cx="1873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y chlopně z denaturovaného biologického materiál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875640" y="573408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tužný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148360" y="2637000"/>
            <a:ext cx="360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5148360" y="3933720"/>
            <a:ext cx="1511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 flipH="1" flipV="1">
            <a:off x="6300360" y="1773000"/>
            <a:ext cx="10796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7380360" y="3860280"/>
            <a:ext cx="50472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Implantovaná bioprotéza v mitrální poz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4" name="Picture 6" descr="kardio3"/>
          <p:cNvPicPr/>
          <p:nvPr/>
        </p:nvPicPr>
        <p:blipFill>
          <a:blip r:embed="rId1"/>
          <a:stretch/>
        </p:blipFill>
        <p:spPr>
          <a:xfrm>
            <a:off x="1589040" y="134784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Ukázka selhání umělé srdeční chlopně kulič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8" name="Picture 13" descr="2dubna1"/>
          <p:cNvPicPr/>
          <p:nvPr/>
        </p:nvPicPr>
        <p:blipFill>
          <a:blip r:embed="rId1"/>
          <a:stretch/>
        </p:blipFill>
        <p:spPr>
          <a:xfrm>
            <a:off x="1692360" y="1197000"/>
            <a:ext cx="5753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KP model bioprotéz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1052640"/>
            <a:ext cx="777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poloh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řená poloh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2" name="Picture 6" descr="chlopen7"/>
          <p:cNvPicPr/>
          <p:nvPr/>
        </p:nvPicPr>
        <p:blipFill>
          <a:blip r:embed="rId1"/>
          <a:stretch/>
        </p:blipFill>
        <p:spPr>
          <a:xfrm>
            <a:off x="623880" y="1700280"/>
            <a:ext cx="7894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éma  anatomické struktury mitrální chlop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4" descr="mitrální.JPG"/>
          <p:cNvPicPr/>
          <p:nvPr/>
        </p:nvPicPr>
        <p:blipFill>
          <a:blip r:embed="rId1"/>
          <a:stretch/>
        </p:blipFill>
        <p:spPr>
          <a:xfrm>
            <a:off x="428760" y="1785960"/>
            <a:ext cx="8281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Léčba c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hlopen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vad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 její ri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éč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půrná medikamentóz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lastika chlopně (např. perkutánní balonková pulmonální valvuloplas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hrada vadné chlopně bioprotézou nebo mechanickou protézou – nejběžnější typ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ouli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iz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trombů v souvislosti s turbulencí - u umělých chlopní doživotní antikoagulační léč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ční protetická endokarditida (záně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ysfunkce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- degenerace biologického chlopenního materiálu spojená s retrakcí cípů, kalcifikace způsobující změnu mechanických vlastnos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orfologie a struktura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7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oro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chema lis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lamely) aortální chlop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ě vyznačeno jejich uchycení ke stěně aortálního s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lopen1"/>
          <p:cNvPicPr/>
          <p:nvPr/>
        </p:nvPicPr>
        <p:blipFill>
          <a:blip r:embed="rId1"/>
          <a:stretch/>
        </p:blipFill>
        <p:spPr>
          <a:xfrm>
            <a:off x="539640" y="1989000"/>
            <a:ext cx="22510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lopen3"/>
          <p:cNvPicPr/>
          <p:nvPr/>
        </p:nvPicPr>
        <p:blipFill>
          <a:blip r:embed="rId2"/>
          <a:stretch/>
        </p:blipFill>
        <p:spPr>
          <a:xfrm>
            <a:off x="2916360" y="3213000"/>
            <a:ext cx="2708280" cy="2881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4140360" y="907920"/>
            <a:ext cx="4535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vrstevnaté struktury listu aortální chlopně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ibrosa – vazivová vrstva s převahou obvodových kolagenních vlák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spongiosa – řídká želatinová trámčina – zajišťuje kluzné vlastnosti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66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entricularis – vrstva z elastinu a kolagen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9" descr="chlopen5"/>
          <p:cNvPicPr/>
          <p:nvPr/>
        </p:nvPicPr>
        <p:blipFill>
          <a:blip r:embed="rId3"/>
          <a:srcRect l="3447" t="0" r="0" b="0"/>
          <a:stretch/>
        </p:blipFill>
        <p:spPr>
          <a:xfrm>
            <a:off x="5649840" y="3213000"/>
            <a:ext cx="3025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Struktura listu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ísla udávají tlouštku listu v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hlopen2"/>
          <p:cNvPicPr/>
          <p:nvPr/>
        </p:nvPicPr>
        <p:blipFill>
          <a:blip r:embed="rId1"/>
          <a:stretch/>
        </p:blipFill>
        <p:spPr>
          <a:xfrm>
            <a:off x="971640" y="2060640"/>
            <a:ext cx="784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echanické vlastnosti listu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410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 v tangenciálním směru 0,3-5 MPa; závisí 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vápenatění chlopně, které je ovlivněno jejím mechanickým namáh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naturaci – modul pružnosti klesá, tažnost ro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nedbatelná hystere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loušťka šipky –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élka šipky – ta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lopen4"/>
          <p:cNvPicPr/>
          <p:nvPr/>
        </p:nvPicPr>
        <p:blipFill>
          <a:blip r:embed="rId1"/>
          <a:stretch/>
        </p:blipFill>
        <p:spPr>
          <a:xfrm>
            <a:off x="6019920" y="1341360"/>
            <a:ext cx="236844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5942160" y="1052640"/>
            <a:ext cx="259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značení směrů na listu aortální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6" descr="chlopne-anizo"/>
          <p:cNvPicPr/>
          <p:nvPr/>
        </p:nvPicPr>
        <p:blipFill>
          <a:blip r:embed="rId2"/>
          <a:srcRect l="0" t="25752" r="0" b="0"/>
          <a:stretch/>
        </p:blipFill>
        <p:spPr>
          <a:xfrm>
            <a:off x="2700360" y="4294080"/>
            <a:ext cx="604836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989440" y="4005360"/>
            <a:ext cx="56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zotropní materiál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bros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Ventriculari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Chlopně postižené stenóz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26920" y="14130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výrazné kalcifikac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ě kalcifikovan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3" descr="kardio2"/>
          <p:cNvPicPr/>
          <p:nvPr/>
        </p:nvPicPr>
        <p:blipFill>
          <a:blip r:embed="rId1"/>
          <a:stretch/>
        </p:blipFill>
        <p:spPr>
          <a:xfrm>
            <a:off x="349200" y="1957320"/>
            <a:ext cx="4438800" cy="384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kardio1"/>
          <p:cNvPicPr/>
          <p:nvPr/>
        </p:nvPicPr>
        <p:blipFill>
          <a:blip r:embed="rId2"/>
          <a:stretch/>
        </p:blipFill>
        <p:spPr>
          <a:xfrm>
            <a:off x="4808520" y="1982880"/>
            <a:ext cx="3940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ypy náhrad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chlop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) Biologické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)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stentu umístěná denaturovaná chlopeň z prasete nebo listy vytvořeny z telecího perika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 – pozvolná kalcifikace, zvýšení tuhosti listů, vznik trhlinek v nejnamáhanějších místech – postupná degrad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éměř ideální hem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chý 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může dojít k náhlému sel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) Umělé – samočinné ventily různých konstrukčních princip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até – není vhodný materi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á (Starr-Edwards, Smeloff-Cu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á (Björk-Shiley, Beall) – menší setrvačná hmo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dynamika- turbulence – vznik tromb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kuličk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11"/>
          <p:cNvPicPr/>
          <p:nvPr/>
        </p:nvPicPr>
        <p:blipFill>
          <a:blip r:embed="rId1"/>
          <a:srcRect l="0" t="0" r="57721" b="0"/>
          <a:stretch/>
        </p:blipFill>
        <p:spPr>
          <a:xfrm>
            <a:off x="638280" y="1628640"/>
            <a:ext cx="3573360" cy="339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u3v11"/>
          <p:cNvPicPr/>
          <p:nvPr/>
        </p:nvPicPr>
        <p:blipFill>
          <a:blip r:embed="rId2"/>
          <a:srcRect l="49476" t="0" r="0" b="0"/>
          <a:stretch/>
        </p:blipFill>
        <p:spPr>
          <a:xfrm>
            <a:off x="4260960" y="1628640"/>
            <a:ext cx="4343400" cy="3463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238400" y="1125360"/>
            <a:ext cx="62132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r-Edwar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meloff-Cut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55640" y="5300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403280" y="3573360"/>
            <a:ext cx="289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058920" y="2349360"/>
            <a:ext cx="115236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211640" y="2491920"/>
            <a:ext cx="1368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4211640" y="486864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6877080" y="4076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5:46Z</dcterms:modified>
  <cp:revision>283</cp:revision>
  <dc:subject/>
  <dc:title>Biomechanics  of smooth muscle cells </dc:title>
</cp:coreProperties>
</file>