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B78-F6B6-488A-9CC9-2E843A1E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3B7-BC1C-450F-A033-7013CA69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B27-0179-43DD-80DC-778A688E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2CC-0C2F-4171-907F-FF902DC7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876-193B-43BC-9AB0-9C339F33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26B-77C0-4BBE-8669-5BBDF451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27F-4422-47D5-B1AF-BC21C51A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6B9C-43BF-4B83-822D-7883D56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F8A-89E2-40FE-9498-82BF22D5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2E7-D0E3-4F9E-9859-BA82754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EA5-9DA0-465E-A530-2453067A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C0E-A26E-43B0-BD5F-2DA23A4D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BB3A-D092-42B5-9986-6FE5D4A63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orovnání výchozí odhadnuté křivky s křivkou získanou iterační výpočtovou simulací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homogenní nelineárně-elastický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5640" y="1989000"/>
          <a:ext cx="770400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7040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0:58:10Z</dcterms:created>
  <dc:creator>Jiri Bursa</dc:creator>
  <dc:description/>
  <dc:language>en-US</dc:language>
  <cp:lastModifiedBy>umt</cp:lastModifiedBy>
  <dcterms:modified xsi:type="dcterms:W3CDTF">2007-01-08T13:02:50Z</dcterms:modified>
  <cp:revision>3</cp:revision>
  <dc:subject/>
  <dc:title>Porovnání výchozí odhadnuté křivky     s křivkou získanou iterační výpočtovou simulací  homogenní nelineárně-elastický model</dc:title>
</cp:coreProperties>
</file>