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3950-05F4-4962-AF73-AD24E6254D3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lastní kvantifikaci by bylo možno provádět následovně:  při provádění dvou různých mechanických zkoušek pro daný typ buňky bychom zjistili při jakých úrovních zatížení dochází ke spuštění biochemických reak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031C-304F-4146-928A-A57DE415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DDA2-7C5E-42A6-BCEC-590F161B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EE3F-B45D-4B5B-B52B-21A46347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F0E9-9011-43F0-B2D6-49CDF34F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6F01-5EA4-4ACF-90B9-4E5CAB2F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4942-D535-4287-BCE0-937B5621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E27C-72D1-4A00-B58F-AA30CF26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5D86-DDF4-459C-91FA-87029775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9F11-2937-48F8-9A98-1B77C6E4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5DAB-F830-49EB-9194-54081C29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58D7-9B9E-486A-A2E2-4CF33052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38D1-F625-4D29-B42C-2C5DA517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11A1-7354-48A3-9F55-C1A36B165AF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Jak je možno kvantifikovat vliv hodnot namáhání (napjatosti) prvků struktury buňky na aktivaci biochemických procesů v buňce?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1090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jistit, při jakých úrovních zatížení dojde k aktivaci biochemického procesu pro daný typ buňky při dvou různých mechanických zkoušk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2566" t="7820" r="6410" b="0"/>
          <a:stretch/>
        </p:blipFill>
        <p:spPr>
          <a:xfrm>
            <a:off x="900000" y="4365720"/>
            <a:ext cx="2880000" cy="2057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00280" y="2538360"/>
            <a:ext cx="2962080" cy="1798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084720" y="2565360"/>
            <a:ext cx="2522880" cy="1673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rcRect l="0" t="15572" r="0" b="0"/>
          <a:stretch/>
        </p:blipFill>
        <p:spPr>
          <a:xfrm>
            <a:off x="6084720" y="4221000"/>
            <a:ext cx="2521080" cy="2057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56000" y="5229360"/>
            <a:ext cx="93636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948360" y="5300640"/>
            <a:ext cx="12240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80000" y="357336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Aktivace biochemického proce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347640" y="4076640"/>
            <a:ext cx="57636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4076640"/>
            <a:ext cx="237636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mulace obou zkoušek při zatížení, které způsobilo aktivaci biochemických procesů při experimen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2394" t="15221" r="2238" b="38562"/>
          <a:stretch/>
        </p:blipFill>
        <p:spPr>
          <a:xfrm>
            <a:off x="577800" y="3760920"/>
            <a:ext cx="3776760" cy="1579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59280" y="508464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56360" y="407664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43640" y="3933720"/>
            <a:ext cx="216000" cy="166680"/>
          </a:xfrm>
          <a:custGeom>
            <a:avLst/>
            <a:gdLst/>
            <a:ahLst/>
            <a:rect l="l" t="t" r="r" b="b"/>
            <a:pathLst>
              <a:path w="136" h="105">
                <a:moveTo>
                  <a:pt x="0" y="15"/>
                </a:moveTo>
                <a:cubicBezTo>
                  <a:pt x="34" y="7"/>
                  <a:pt x="68" y="0"/>
                  <a:pt x="91" y="15"/>
                </a:cubicBezTo>
                <a:cubicBezTo>
                  <a:pt x="114" y="30"/>
                  <a:pt x="125" y="67"/>
                  <a:pt x="136" y="105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59280" y="4365720"/>
            <a:ext cx="1295280" cy="718920"/>
          </a:xfrm>
          <a:custGeom>
            <a:avLst/>
            <a:gdLst/>
            <a:ahLst/>
            <a:rect l="l" t="t" r="r" b="b"/>
            <a:pathLst>
              <a:path w="771" h="408">
                <a:moveTo>
                  <a:pt x="0" y="408"/>
                </a:moveTo>
                <a:cubicBezTo>
                  <a:pt x="125" y="339"/>
                  <a:pt x="250" y="271"/>
                  <a:pt x="363" y="226"/>
                </a:cubicBezTo>
                <a:cubicBezTo>
                  <a:pt x="476" y="181"/>
                  <a:pt x="613" y="174"/>
                  <a:pt x="681" y="136"/>
                </a:cubicBezTo>
                <a:cubicBezTo>
                  <a:pt x="749" y="98"/>
                  <a:pt x="760" y="49"/>
                  <a:pt x="771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43640" y="4581360"/>
            <a:ext cx="1295280" cy="516240"/>
          </a:xfrm>
          <a:custGeom>
            <a:avLst/>
            <a:gdLst/>
            <a:ahLst/>
            <a:rect l="l" t="t" r="r" b="b"/>
            <a:pathLst>
              <a:path w="816" h="325">
                <a:moveTo>
                  <a:pt x="0" y="8"/>
                </a:moveTo>
                <a:cubicBezTo>
                  <a:pt x="90" y="4"/>
                  <a:pt x="181" y="0"/>
                  <a:pt x="317" y="53"/>
                </a:cubicBezTo>
                <a:cubicBezTo>
                  <a:pt x="453" y="106"/>
                  <a:pt x="703" y="242"/>
                  <a:pt x="816" y="325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200640" y="4745160"/>
            <a:ext cx="200160" cy="101520"/>
          </a:xfrm>
          <a:prstGeom prst="ellipse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2000" y="4797360"/>
            <a:ext cx="576000" cy="2160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70000" y="4340160"/>
            <a:ext cx="2174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91280" y="4660920"/>
            <a:ext cx="2174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003640" y="4797000"/>
            <a:ext cx="11527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2268000" y="4508640"/>
            <a:ext cx="863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71640" y="5516640"/>
            <a:ext cx="40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rovnatelné hodnoty namáh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rčitého prvku struktury buň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1700280"/>
            <a:ext cx="655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kud by bylo dosaženo dostatečné shody u hodnot napjatosti určitých strukturních prvků výpočtového modelu buňky při úrovních zatížení odpovídajících spuštění biochemických reakcí, pak lze vyslovit hypotézu, že spuštění těchto procesů bylo iniciováno právě překročením kritických hodnot namáhání u daného strukturního prvku buň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21:20:37Z</dcterms:created>
  <dc:creator>Jiri Bursa</dc:creator>
  <dc:description/>
  <dc:language>en-US</dc:language>
  <cp:lastModifiedBy>Jiri Bursa</cp:lastModifiedBy>
  <dcterms:modified xsi:type="dcterms:W3CDTF">2007-01-07T21:29:24Z</dcterms:modified>
  <cp:revision>2</cp:revision>
  <dc:subject/>
  <dc:title>Jak je možno kvantifikovat vliv hodnot namáhání (napjatosti) prvků struktury buňky na aktivaci biochemických procesů v buňce? </dc:title>
</cp:coreProperties>
</file>