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AAC-161F-46FF-9716-C66AF9A2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E3B-DD32-4D75-B9FE-82E78247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058-F5AF-4C76-99B8-78067759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E66-0BF9-4807-91E7-B6A5BD58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1B0-AE72-424C-8F8F-7A1B4F14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273-2BCF-4C49-A804-13C4A62D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986-7366-4CC6-B493-67FF22DF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C29-066C-4AE6-B894-31791BED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FFC-9BAA-42F4-A5CD-AE70CDB9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A02-7171-4B1A-9788-6DF8E596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B79-BEB0-4584-8E69-13CD07CD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ADB-4B18-40F3-9FC1-DD88A0EE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9CBD-9BFA-47BE-83E2-5F3C595A4AB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Základní typy arteriálních stentů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5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Rectangle 224"/>
          <p:cNvSpPr/>
          <p:nvPr/>
        </p:nvSpPr>
        <p:spPr>
          <a:xfrm>
            <a:off x="457200" y="1960560"/>
            <a:ext cx="821844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le způsobu  roztažení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lonkem roztažitelné – založeny na plastické deformaci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amoroztažitelné – založeny na elastické deformaci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flexní – založeny na změně tvarové stability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le technologie výroby 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ubičkové 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átěné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. Podle povrchové úpravy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ez zvláštní úpravy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tažené (coated stents)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4" name="Obrázek 6" descr=""/>
          <p:cNvPicPr/>
          <p:nvPr/>
        </p:nvPicPr>
        <p:blipFill>
          <a:blip r:embed="rId1"/>
          <a:stretch/>
        </p:blipFill>
        <p:spPr>
          <a:xfrm>
            <a:off x="108000" y="8424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920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Biflexní stent</a:t>
            </a:r>
            <a:br>
              <a:rPr sz="40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v expandovaném stavu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      zmáčknutý pro zavá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tent-biflex1"/>
          <p:cNvPicPr/>
          <p:nvPr/>
        </p:nvPicPr>
        <p:blipFill>
          <a:blip r:embed="rId1"/>
          <a:stretch/>
        </p:blipFill>
        <p:spPr>
          <a:xfrm>
            <a:off x="826920" y="1844640"/>
            <a:ext cx="72453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orovnání výsledku angioplastiky se sten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3538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Řez tepnou po arteriopla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č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él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Řez tepnou po aplikaci st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éln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č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u3v01"/>
          <p:cNvPicPr/>
          <p:nvPr/>
        </p:nvPicPr>
        <p:blipFill>
          <a:blip r:embed="rId1"/>
          <a:stretch/>
        </p:blipFill>
        <p:spPr>
          <a:xfrm>
            <a:off x="4156200" y="1052640"/>
            <a:ext cx="4160880" cy="5130720"/>
          </a:xfrm>
          <a:prstGeom prst="rect">
            <a:avLst/>
          </a:prstGeom>
          <a:ln w="0">
            <a:noFill/>
          </a:ln>
        </p:spPr>
      </p:pic>
      <p:sp>
        <p:nvSpPr>
          <p:cNvPr id="82" name="Line 6"/>
          <p:cNvSpPr/>
          <p:nvPr/>
        </p:nvSpPr>
        <p:spPr>
          <a:xfrm flipV="1">
            <a:off x="3924360" y="1557000"/>
            <a:ext cx="934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Line 7"/>
          <p:cNvSpPr/>
          <p:nvPr/>
        </p:nvSpPr>
        <p:spPr>
          <a:xfrm>
            <a:off x="3995640" y="299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3924360" y="4581360"/>
            <a:ext cx="1368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Line 9"/>
          <p:cNvSpPr/>
          <p:nvPr/>
        </p:nvSpPr>
        <p:spPr>
          <a:xfrm flipV="1">
            <a:off x="3995640" y="5805000"/>
            <a:ext cx="2952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Potažené koronární stenty </a:t>
            </a:r>
            <a:r>
              <a:rPr b="1" lang="cs-CZ" sz="2800" spc="-1" strike="noStrike">
                <a:solidFill>
                  <a:srgbClr val="333399"/>
                </a:solidFill>
                <a:latin typeface="Times New Roman"/>
              </a:rPr>
              <a:t>(coated st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avedeny v 90. letech, velmi rychlé rozšíř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Restenóz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použití stentů v 11-17% případů, výhradně v 1. roce, nejčastěji během 6 měsíců. Jsou způsobeny zánětlivou reakcí tkáně na trauma při zavedení stentu, pronikáním buněk hladkých svalů z medie do neointimy, kde se množí a produkují extracelulární matrix, čímž zmenšují lumen. Na tom se podílí i krevní destičky a fibr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stupy pro redukci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in-ste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restenóz - nejnadějnější stenty s povrchem pokrytým chemickými látkami (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oated stent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. K pokrytí se používaj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norganické látky -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karbid křemíku, uhlík v různých formách - lepší biokompatibil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rganické látk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ETF - neosvědčil se, působí prozánětlivě, nadměrná tvorba neointi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osforylcholin - možnost vázat na něj léky (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rug eluting stents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. Ty se postupně uvolňují, možnost lokálního a dlouhodobého protizánětlivého působ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Stentgra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mbinace cévní protézy a stentu. Umožňují méně invazívní aplikace cévních protéz - důležité u pacientů kontraindikovaných ke klasické oper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- nejvíce bifurkační stentgraft pro exkluzi (vyřazení) vaku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neurysmatu břišní aort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Zavádění cestou femorálních nebo ilických arteri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aaa2"/>
          <p:cNvPicPr/>
          <p:nvPr/>
        </p:nvPicPr>
        <p:blipFill>
          <a:blip r:embed="rId1"/>
          <a:stretch/>
        </p:blipFill>
        <p:spPr>
          <a:xfrm>
            <a:off x="971640" y="2075040"/>
            <a:ext cx="73454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Stentgra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aaa1"/>
          <p:cNvPicPr/>
          <p:nvPr/>
        </p:nvPicPr>
        <p:blipFill>
          <a:blip r:embed="rId1"/>
          <a:stretch/>
        </p:blipFill>
        <p:spPr>
          <a:xfrm>
            <a:off x="1116000" y="888840"/>
            <a:ext cx="70563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Trubičkový balonkem roztažitelný 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u3v20"/>
          <p:cNvPicPr/>
          <p:nvPr/>
        </p:nvPicPr>
        <p:blipFill>
          <a:blip r:embed="rId1"/>
          <a:stretch/>
        </p:blipFill>
        <p:spPr>
          <a:xfrm>
            <a:off x="1042920" y="1052640"/>
            <a:ext cx="67802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Drátěný balonkem roztažitelný 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u3v21"/>
          <p:cNvPicPr/>
          <p:nvPr/>
        </p:nvPicPr>
        <p:blipFill>
          <a:blip r:embed="rId1"/>
          <a:srcRect l="0" t="0" r="0" b="15843"/>
          <a:stretch/>
        </p:blipFill>
        <p:spPr>
          <a:xfrm>
            <a:off x="900000" y="1052640"/>
            <a:ext cx="72057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Balonkem roztažitelné stenty - aplik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u3v08"/>
          <p:cNvPicPr/>
          <p:nvPr/>
        </p:nvPicPr>
        <p:blipFill>
          <a:blip r:embed="rId1"/>
          <a:stretch/>
        </p:blipFill>
        <p:spPr>
          <a:xfrm>
            <a:off x="571680" y="1413000"/>
            <a:ext cx="796104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Samoroztažitelný drátěný 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u3v03"/>
          <p:cNvPicPr/>
          <p:nvPr/>
        </p:nvPicPr>
        <p:blipFill>
          <a:blip r:embed="rId1"/>
          <a:stretch/>
        </p:blipFill>
        <p:spPr>
          <a:xfrm>
            <a:off x="468360" y="1098720"/>
            <a:ext cx="6981840" cy="5209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7451640" y="3327480"/>
            <a:ext cx="15843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zvinutý stav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rozvinutý stav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i zavádě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atetrem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Line 7"/>
          <p:cNvSpPr/>
          <p:nvPr/>
        </p:nvSpPr>
        <p:spPr>
          <a:xfrm flipH="1" flipV="1">
            <a:off x="6227640" y="3213000"/>
            <a:ext cx="1224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5435640" y="4724280"/>
            <a:ext cx="194472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Drátěný stent s vynikající ohebn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020000" y="1844640"/>
            <a:ext cx="15843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8" name="Picture 8" descr="u3v02"/>
          <p:cNvPicPr/>
          <p:nvPr/>
        </p:nvPicPr>
        <p:blipFill>
          <a:blip r:embed="rId1"/>
          <a:stretch/>
        </p:blipFill>
        <p:spPr>
          <a:xfrm>
            <a:off x="684360" y="1069920"/>
            <a:ext cx="59418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rincip změny tvarové s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u3v25"/>
          <p:cNvPicPr/>
          <p:nvPr/>
        </p:nvPicPr>
        <p:blipFill>
          <a:blip r:embed="rId1"/>
          <a:stretch/>
        </p:blipFill>
        <p:spPr>
          <a:xfrm>
            <a:off x="457200" y="1557360"/>
            <a:ext cx="82296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542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Závislost síly a deformace </a:t>
            </a:r>
            <a:br>
              <a:rPr sz="3600"/>
            </a:b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ři změně tvarové s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u3v25"/>
          <p:cNvPicPr/>
          <p:nvPr/>
        </p:nvPicPr>
        <p:blipFill>
          <a:blip r:embed="rId1"/>
          <a:srcRect l="58766" t="49705" r="0" b="0"/>
          <a:stretch/>
        </p:blipFill>
        <p:spPr>
          <a:xfrm>
            <a:off x="755640" y="1484280"/>
            <a:ext cx="7402680" cy="4452840"/>
          </a:xfrm>
          <a:prstGeom prst="rect">
            <a:avLst/>
          </a:prstGeom>
          <a:ln w="0">
            <a:noFill/>
          </a:ln>
        </p:spPr>
      </p:pic>
      <p:sp>
        <p:nvSpPr>
          <p:cNvPr id="63" name="Line 4"/>
          <p:cNvSpPr/>
          <p:nvPr/>
        </p:nvSpPr>
        <p:spPr>
          <a:xfrm>
            <a:off x="2124000" y="3716280"/>
            <a:ext cx="287964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 flipH="1" flipV="1">
            <a:off x="3348000" y="2708280"/>
            <a:ext cx="295272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 flipV="1">
            <a:off x="5003640" y="3500280"/>
            <a:ext cx="0" cy="115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Line 7"/>
          <p:cNvSpPr/>
          <p:nvPr/>
        </p:nvSpPr>
        <p:spPr>
          <a:xfrm flipV="1">
            <a:off x="5003640" y="328428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348000" y="270828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" name="Line 9"/>
          <p:cNvSpPr/>
          <p:nvPr/>
        </p:nvSpPr>
        <p:spPr>
          <a:xfrm>
            <a:off x="3348000" y="3500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 flipV="1">
            <a:off x="5003640" y="3716280"/>
            <a:ext cx="1297080" cy="936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 flipH="1">
            <a:off x="2124000" y="2708280"/>
            <a:ext cx="1224000" cy="936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 flipH="1">
            <a:off x="4066920" y="4149720"/>
            <a:ext cx="93636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5435640" y="4365720"/>
            <a:ext cx="7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2627280" y="587700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deformační zatěžování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508720" y="522936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ilové zatěžování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2723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Základní konstrukční jednotka 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biflexního st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u3v26"/>
          <p:cNvPicPr/>
          <p:nvPr/>
        </p:nvPicPr>
        <p:blipFill>
          <a:blip r:embed="rId1"/>
          <a:stretch/>
        </p:blipFill>
        <p:spPr>
          <a:xfrm>
            <a:off x="457200" y="2060640"/>
            <a:ext cx="8362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12:32Z</dcterms:modified>
  <cp:revision>257</cp:revision>
  <dc:subject/>
  <dc:title>Biomechanics  of smooth muscle cells </dc:title>
</cp:coreProperties>
</file>