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B89DB-8C54-474B-9A83-633A1894054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otom jsme měnili 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modul pružnosti každé z komponent (cytoplasma, membrána, jádro, mikrofilamenty, mikrotubuly) v rozsahu 50% - 200% výchozí hodnoty a prováděli výpočtové simulace s cílem zjistit, která z buněčných komponent má největší vliv na výsledky simulac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FE38-2261-4479-B2DD-B29C477F0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1C36-9F79-4A6C-8B87-D0F094F21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3C8F-B23C-4BFC-B18E-EF5CDABAC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EECA-1818-4233-924B-1AD141E37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706E-D72A-47DF-AF54-39594E98D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41D3-5706-4DC6-8D49-DFE500A17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60B1-05D4-4E74-BF75-19146675F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AF28-3089-4629-829E-B58E674AA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501E-2B51-4138-AD39-36B95C0D6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3276-1C27-45AC-ACA5-42C8B5B1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5253-FA90-43F6-91EF-501A889A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9C21-70E6-4465-9A01-45989615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C1613-E9D0-45E2-8019-E7B66DDC2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Times New Roman"/>
              </a:rPr>
              <a:t>Citlivostní analýz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7991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uly pružnosti všech komponent modelu byly měněny v rozsahu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50% - 200%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ůvodní hodnoty. Simulace vtlačovací zkoušky s těmito hodnotami ukazují vliv změn tuhosti jednotlivých komponent na průběh vtlačovací zkoušky. Tak byla vyšetřována závislost výsledků simulované zkoušky na tuhos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61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ytoplazm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61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brá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61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ád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61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krofila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61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krotubul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7T20:23:43Z</dcterms:created>
  <dc:creator>Jiri Bursa</dc:creator>
  <dc:description/>
  <dc:language>en-US</dc:language>
  <cp:lastModifiedBy>Jiří Burša</cp:lastModifiedBy>
  <dcterms:modified xsi:type="dcterms:W3CDTF">2007-01-08T09:59:38Z</dcterms:modified>
  <cp:revision>2</cp:revision>
  <dc:subject/>
  <dc:title>Citlivostní analýza</dc:title>
</cp:coreProperties>
</file>