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57D-2484-4F0D-9434-E2564376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8AE-353E-49F8-9090-D7925157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193-940D-42F7-B787-0D15E91B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73A-0E54-41E7-A6DE-DDCED391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E1F-11C6-45D1-83F3-2C748386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815-0B25-4248-A3EB-54B31305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D1A-8829-4FB3-A061-1F5A5136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887-3DAC-4C5D-88F3-47C09B1B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3E3-61F9-49F2-9E4A-8A41B773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461-D090-46EB-890F-0490B8A5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4B2-1E7D-41B2-8856-F6B7E80E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58E-5B7C-43D3-B6B7-16CBBC93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82FE-F855-434F-BC65-8E9028ABE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desmozomu –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pevnější mechanické spojení s širokou mezerou mezi oběma membrá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8720" cy="43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16360" y="179712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3502080"/>
            <a:ext cx="2160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ermediální vlák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558972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rycí des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5877000"/>
            <a:ext cx="27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smocollin a desmogl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1:26Z</dcterms:created>
  <dc:creator>Jiri Bursa</dc:creator>
  <dc:description/>
  <dc:language>en-US</dc:language>
  <cp:lastModifiedBy>Jiri Bursa</cp:lastModifiedBy>
  <dcterms:modified xsi:type="dcterms:W3CDTF">2006-12-27T12:42:58Z</dcterms:modified>
  <cp:revision>4</cp:revision>
  <dc:subject/>
  <dc:title>Schéma desmozomu – pevnější mechanické spojení s širokou mezerou mezi oběma membránami</dc:title>
</cp:coreProperties>
</file>