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B82-2B8A-4CD6-9E51-AB3F8E6D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97F-7E4B-4C89-9375-EEF866A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969-EDEF-4968-9384-5F546E28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AFF-3EA7-44A5-81BE-C9D4D0BD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051-3922-4D72-A6F3-E09C3ED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2A6-5DEA-4E78-8D5F-672CB57E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5BD-77F7-4837-85A3-F99427EE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61C-97B3-4F91-9DB2-115EDBD6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580-508C-4A72-9DB2-AF593D88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8BC-16BE-45CF-BE55-EE686BE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3A3-3049-4EA9-B123-C189728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7C9-893D-4F73-B803-C9EF139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166-EE60-4AF5-8E9B-D6449F79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262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57600" y="-33480"/>
            <a:ext cx="204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Applied Mechanics 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68480" y="-28440"/>
            <a:ext cx="180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Wisla , 30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.-1.6.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280200"/>
            <a:ext cx="9167760" cy="672840"/>
            <a:chOff x="0" y="6280200"/>
            <a:chExt cx="9167760" cy="67284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308640"/>
              <a:ext cx="9167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63400" y="6280200"/>
              <a:ext cx="42847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Laboratoř mechatroniky a robotiky                           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400" y="6629400"/>
              <a:ext cx="400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Ústav mechaniky těles, FSI, VUT v Brně </a:t>
              </a: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 Ústav termomechaniky, AV Č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" name=""/>
            <p:cNvGraphicFramePr/>
            <p:nvPr/>
          </p:nvGraphicFramePr>
          <p:xfrm>
            <a:off x="58680" y="6337440"/>
            <a:ext cx="473040" cy="47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80" y="6337440"/>
                      <a:ext cx="4730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" name=""/>
            <p:cNvGrpSpPr/>
            <p:nvPr/>
          </p:nvGrpSpPr>
          <p:grpSpPr>
            <a:xfrm>
              <a:off x="7305840" y="6337440"/>
              <a:ext cx="1753920" cy="476280"/>
              <a:chOff x="7305840" y="6337440"/>
              <a:chExt cx="1753920" cy="4762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9320" y="6337440"/>
                <a:ext cx="46044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80400" y="6342120"/>
                <a:ext cx="565200" cy="4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5840" y="6337440"/>
                <a:ext cx="42840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LING AND ANALYSIS OF DYNAMIC PROPERTIES OF ELECTROMECHANICAL DRIVE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876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.Ing. Ctirad Kratochvíl, Dr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g. František Procházka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00200" y="2666880"/>
            <a:ext cx="6031080" cy="1530360"/>
            <a:chOff x="1600200" y="2666880"/>
            <a:chExt cx="6031080" cy="1530360"/>
          </a:xfrm>
        </p:grpSpPr>
        <p:grpSp>
          <p:nvGrpSpPr>
            <p:cNvPr id="59" name=""/>
            <p:cNvGrpSpPr/>
            <p:nvPr/>
          </p:nvGrpSpPr>
          <p:grpSpPr>
            <a:xfrm>
              <a:off x="1600200" y="2666880"/>
              <a:ext cx="6031080" cy="1288440"/>
              <a:chOff x="1600200" y="2666880"/>
              <a:chExt cx="6031080" cy="1288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714680" y="2666880"/>
                <a:ext cx="5744880" cy="1288440"/>
                <a:chOff x="1714680" y="2666880"/>
                <a:chExt cx="5744880" cy="1288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830840" y="3238200"/>
                  <a:ext cx="807840" cy="14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81280" y="3242880"/>
                  <a:ext cx="752760" cy="13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592600" y="2819160"/>
                  <a:ext cx="1866960" cy="976320"/>
                  <a:chOff x="5592600" y="2819160"/>
                  <a:chExt cx="1866960" cy="9763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6006960" y="2823840"/>
                    <a:ext cx="103356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7040520" y="281916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5592600" y="282384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1714680" y="2823840"/>
                  <a:ext cx="1866600" cy="976320"/>
                  <a:chOff x="1714680" y="2823840"/>
                  <a:chExt cx="1866600" cy="9763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129040" y="2828520"/>
                    <a:ext cx="103320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162240" y="282384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1714680" y="282852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4338360" y="2666880"/>
                  <a:ext cx="492120" cy="1288440"/>
                  <a:chOff x="4338360" y="2666880"/>
                  <a:chExt cx="492120" cy="128844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5400000">
                    <a:off x="3941280" y="3066120"/>
                    <a:ext cx="1286280" cy="4921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584960" y="2666880"/>
                    <a:ext cx="0" cy="12769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" name=""/>
              <p:cNvSpPr/>
              <p:nvPr/>
            </p:nvSpPr>
            <p:spPr>
              <a:xfrm>
                <a:off x="1600200" y="3309840"/>
                <a:ext cx="6031080" cy="1440"/>
              </a:xfrm>
              <a:custGeom>
                <a:avLst/>
                <a:gdLst/>
                <a:ahLst/>
                <a:rect l="l" t="t" r="r" b="b"/>
                <a:pathLst>
                  <a:path w="7595" h="1">
                    <a:moveTo>
                      <a:pt x="0" y="0"/>
                    </a:moveTo>
                    <a:lnTo>
                      <a:pt x="7595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743120" y="3801600"/>
              <a:ext cx="1852560" cy="395640"/>
              <a:chOff x="1743120" y="3801600"/>
              <a:chExt cx="1852560" cy="395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033640" y="380124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743120" y="3987720"/>
                <a:ext cx="1852560" cy="209520"/>
                <a:chOff x="1743120" y="3987720"/>
                <a:chExt cx="1852560" cy="2095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43120" y="3987720"/>
                  <a:ext cx="1847880" cy="2095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743120" y="398772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5640480" y="3796560"/>
              <a:ext cx="1852560" cy="395640"/>
              <a:chOff x="5640480" y="3796560"/>
              <a:chExt cx="1852560" cy="39564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5930640" y="379620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5640480" y="3982680"/>
                <a:ext cx="1852560" cy="209520"/>
                <a:chOff x="5640480" y="3982680"/>
                <a:chExt cx="1852560" cy="209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640480" y="3982680"/>
                  <a:ext cx="1847880" cy="20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640480" y="398268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kázka řešení konkrétního poh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352680" y="3124080"/>
            <a:ext cx="2400480" cy="1545840"/>
            <a:chOff x="3352680" y="3124080"/>
            <a:chExt cx="2400480" cy="1545840"/>
          </a:xfrm>
        </p:grpSpPr>
        <p:sp>
          <p:nvSpPr>
            <p:cNvPr id="548" name=""/>
            <p:cNvSpPr/>
            <p:nvPr/>
          </p:nvSpPr>
          <p:spPr>
            <a:xfrm>
              <a:off x="4851360" y="3809880"/>
              <a:ext cx="90180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2680" y="3816360"/>
              <a:ext cx="90324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262400" y="3124080"/>
              <a:ext cx="588960" cy="1545840"/>
              <a:chOff x="4262400" y="3124080"/>
              <a:chExt cx="588960" cy="154584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3785040" y="3603600"/>
                <a:ext cx="154332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56880" y="3124080"/>
                <a:ext cx="0" cy="153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112760" y="3313080"/>
            <a:ext cx="2257560" cy="1646280"/>
            <a:chOff x="1112760" y="3313080"/>
            <a:chExt cx="2257560" cy="1646280"/>
          </a:xfrm>
        </p:grpSpPr>
        <p:grpSp>
          <p:nvGrpSpPr>
            <p:cNvPr id="554" name=""/>
            <p:cNvGrpSpPr/>
            <p:nvPr/>
          </p:nvGrpSpPr>
          <p:grpSpPr>
            <a:xfrm>
              <a:off x="1112760" y="3313080"/>
              <a:ext cx="2239560" cy="1171440"/>
              <a:chOff x="1112760" y="3313080"/>
              <a:chExt cx="2239560" cy="1171440"/>
            </a:xfrm>
          </p:grpSpPr>
          <p:sp>
            <p:nvSpPr>
              <p:cNvPr id="555" name=""/>
              <p:cNvSpPr/>
              <p:nvPr/>
            </p:nvSpPr>
            <p:spPr>
              <a:xfrm>
                <a:off x="1609920" y="3318480"/>
                <a:ext cx="1239840" cy="116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49760" y="3313080"/>
                <a:ext cx="502560" cy="11714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112760" y="3318480"/>
                <a:ext cx="502560" cy="116568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47680" y="4484160"/>
              <a:ext cx="2222640" cy="475200"/>
              <a:chOff x="1147680" y="4484160"/>
              <a:chExt cx="2222640" cy="475200"/>
            </a:xfrm>
          </p:grpSpPr>
          <p:sp>
            <p:nvSpPr>
              <p:cNvPr id="559" name=""/>
              <p:cNvSpPr/>
              <p:nvPr/>
            </p:nvSpPr>
            <p:spPr>
              <a:xfrm>
                <a:off x="1147680" y="4707000"/>
                <a:ext cx="221616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47680" y="4707000"/>
                <a:ext cx="2222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496880" y="4483800"/>
                <a:ext cx="1523880" cy="21132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1320"/>
                  <a:gd name="textAreaBottom" fmla="*/ 164880 h 2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765760" y="3306600"/>
            <a:ext cx="2279520" cy="1646280"/>
            <a:chOff x="5765760" y="3306600"/>
            <a:chExt cx="2279520" cy="1646280"/>
          </a:xfrm>
        </p:grpSpPr>
        <p:grpSp>
          <p:nvGrpSpPr>
            <p:cNvPr id="563" name=""/>
            <p:cNvGrpSpPr/>
            <p:nvPr/>
          </p:nvGrpSpPr>
          <p:grpSpPr>
            <a:xfrm>
              <a:off x="5765760" y="3306600"/>
              <a:ext cx="2239560" cy="1171800"/>
              <a:chOff x="5765760" y="3306600"/>
              <a:chExt cx="2239560" cy="1171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262920" y="3312000"/>
                <a:ext cx="1239840" cy="1166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02760" y="3306600"/>
                <a:ext cx="502560" cy="11718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765760" y="3312000"/>
                <a:ext cx="502560" cy="11660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823000" y="4478400"/>
              <a:ext cx="2222280" cy="474480"/>
              <a:chOff x="5823000" y="4478400"/>
              <a:chExt cx="2222280" cy="47448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6172200" y="4478400"/>
                <a:ext cx="1523880" cy="21096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0960"/>
                  <a:gd name="textAreaBottom" fmla="*/ 164520 h 21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23000" y="4700520"/>
                <a:ext cx="2216160" cy="25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23000" y="4700520"/>
                <a:ext cx="2222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763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ématické znázornění pohonové soustavy klasického uspořádán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76320" y="3895560"/>
            <a:ext cx="7234200" cy="1800"/>
          </a:xfrm>
          <a:custGeom>
            <a:avLst/>
            <a:gdLst/>
            <a:ahLst/>
            <a:rect l="l" t="t" r="r" b="b"/>
            <a:pathLst>
              <a:path w="7595" h="1">
                <a:moveTo>
                  <a:pt x="0" y="0"/>
                </a:moveTo>
                <a:lnTo>
                  <a:pt x="7595" y="1"/>
                </a:lnTo>
              </a:path>
            </a:pathLst>
          </a:custGeom>
          <a:noFill/>
          <a:ln w="324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81240" y="5048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ejnosměrný motor s cizím buz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38640" y="5048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ojovací prvek s nelineární charakteristikou tuh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929200" y="50482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acovní str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1752480"/>
            <a:ext cx="457200" cy="144792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2286000"/>
            <a:ext cx="380880" cy="91440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934320" y="2209680"/>
            <a:ext cx="457200" cy="990720"/>
          </a:xfrm>
          <a:prstGeom prst="lightningBol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ciz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0574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kot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19810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zatěžujíc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rametry pohonové soustav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57200" y="762120"/>
            <a:ext cx="4076640" cy="285480"/>
            <a:chOff x="457200" y="762120"/>
            <a:chExt cx="4076640" cy="285480"/>
          </a:xfrm>
        </p:grpSpPr>
        <p:sp>
          <p:nvSpPr>
            <p:cNvPr id="584" name=""/>
            <p:cNvSpPr/>
            <p:nvPr/>
          </p:nvSpPr>
          <p:spPr>
            <a:xfrm>
              <a:off x="457200" y="762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ment setrvačnosti motor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352680" y="762120"/>
                  <a:ext cx="11811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6" name=""/>
          <p:cNvGrpSpPr/>
          <p:nvPr/>
        </p:nvGrpSpPr>
        <p:grpSpPr>
          <a:xfrm>
            <a:off x="457200" y="1066680"/>
            <a:ext cx="4025880" cy="285840"/>
            <a:chOff x="457200" y="1066680"/>
            <a:chExt cx="4025880" cy="285840"/>
          </a:xfrm>
        </p:grpSpPr>
        <p:sp>
          <p:nvSpPr>
            <p:cNvPr id="587" name=""/>
            <p:cNvSpPr/>
            <p:nvPr/>
          </p:nvSpPr>
          <p:spPr>
            <a:xfrm>
              <a:off x="457200" y="1066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moment setrvačnosti prac.stroje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3352680" y="1066680"/>
                  <a:ext cx="1130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9" name=""/>
          <p:cNvGrpSpPr/>
          <p:nvPr/>
        </p:nvGrpSpPr>
        <p:grpSpPr>
          <a:xfrm>
            <a:off x="457200" y="1371600"/>
            <a:ext cx="3892680" cy="276480"/>
            <a:chOff x="457200" y="1371600"/>
            <a:chExt cx="3892680" cy="276480"/>
          </a:xfrm>
        </p:grpSpPr>
        <p:sp>
          <p:nvSpPr>
            <p:cNvPr id="590" name=""/>
            <p:cNvSpPr/>
            <p:nvPr/>
          </p:nvSpPr>
          <p:spPr>
            <a:xfrm>
              <a:off x="457200" y="1371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3352680" y="1371600"/>
                  <a:ext cx="9972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58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457200" y="1676520"/>
            <a:ext cx="4068720" cy="276480"/>
            <a:chOff x="457200" y="1676520"/>
            <a:chExt cx="4068720" cy="276480"/>
          </a:xfrm>
        </p:grpSpPr>
        <p:sp>
          <p:nvSpPr>
            <p:cNvPr id="593" name=""/>
            <p:cNvSpPr/>
            <p:nvPr/>
          </p:nvSpPr>
          <p:spPr>
            <a:xfrm>
              <a:off x="457200" y="16765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352680" y="1676520"/>
                  <a:ext cx="11732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457200" y="1981080"/>
            <a:ext cx="3971880" cy="276480"/>
            <a:chOff x="457200" y="1981080"/>
            <a:chExt cx="3971880" cy="276480"/>
          </a:xfrm>
        </p:grpSpPr>
        <p:sp>
          <p:nvSpPr>
            <p:cNvPr id="596" name=""/>
            <p:cNvSpPr/>
            <p:nvPr/>
          </p:nvSpPr>
          <p:spPr>
            <a:xfrm>
              <a:off x="457200" y="19810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3352680" y="1981080"/>
                  <a:ext cx="10764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457200" y="2286000"/>
            <a:ext cx="3892680" cy="276480"/>
            <a:chOff x="457200" y="2286000"/>
            <a:chExt cx="3892680" cy="276480"/>
          </a:xfrm>
        </p:grpSpPr>
        <p:sp>
          <p:nvSpPr>
            <p:cNvPr id="599" name=""/>
            <p:cNvSpPr/>
            <p:nvPr/>
          </p:nvSpPr>
          <p:spPr>
            <a:xfrm>
              <a:off x="457200" y="22860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3352680" y="2286000"/>
                  <a:ext cx="9972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457200" y="2590920"/>
            <a:ext cx="3892680" cy="276480"/>
            <a:chOff x="457200" y="2590920"/>
            <a:chExt cx="3892680" cy="276480"/>
          </a:xfrm>
        </p:grpSpPr>
        <p:sp>
          <p:nvSpPr>
            <p:cNvPr id="602" name=""/>
            <p:cNvSpPr/>
            <p:nvPr/>
          </p:nvSpPr>
          <p:spPr>
            <a:xfrm>
              <a:off x="457200" y="25909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3352680" y="2590920"/>
                  <a:ext cx="99720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4" name=""/>
          <p:cNvGrpSpPr/>
          <p:nvPr/>
        </p:nvGrpSpPr>
        <p:grpSpPr>
          <a:xfrm>
            <a:off x="457200" y="3200400"/>
            <a:ext cx="4673520" cy="276480"/>
            <a:chOff x="457200" y="3200400"/>
            <a:chExt cx="4673520" cy="276480"/>
          </a:xfrm>
        </p:grpSpPr>
        <p:sp>
          <p:nvSpPr>
            <p:cNvPr id="605" name=""/>
            <p:cNvSpPr/>
            <p:nvPr/>
          </p:nvSpPr>
          <p:spPr>
            <a:xfrm>
              <a:off x="457200" y="32004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onstanty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"/>
                <p:cNvSpPr txBox="1"/>
                <p:nvPr/>
              </p:nvSpPr>
              <p:spPr>
                <a:xfrm>
                  <a:off x="3352680" y="3200400"/>
                  <a:ext cx="11019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W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4648320" y="3200400"/>
                  <a:ext cx="4824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8" name=""/>
          <p:cNvGrpSpPr/>
          <p:nvPr/>
        </p:nvGrpSpPr>
        <p:grpSpPr>
          <a:xfrm>
            <a:off x="457200" y="3505320"/>
            <a:ext cx="4302000" cy="276480"/>
            <a:chOff x="457200" y="3505320"/>
            <a:chExt cx="4302000" cy="276480"/>
          </a:xfrm>
        </p:grpSpPr>
        <p:sp>
          <p:nvSpPr>
            <p:cNvPr id="609" name=""/>
            <p:cNvSpPr/>
            <p:nvPr/>
          </p:nvSpPr>
          <p:spPr>
            <a:xfrm>
              <a:off x="457200" y="35053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při nasycen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3352680" y="3505320"/>
                  <a:ext cx="140652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1" name=""/>
          <p:cNvGrpSpPr/>
          <p:nvPr/>
        </p:nvGrpSpPr>
        <p:grpSpPr>
          <a:xfrm>
            <a:off x="457200" y="2895480"/>
            <a:ext cx="4835520" cy="459000"/>
            <a:chOff x="457200" y="2895480"/>
            <a:chExt cx="4835520" cy="459000"/>
          </a:xfrm>
        </p:grpSpPr>
        <p:sp>
          <p:nvSpPr>
            <p:cNvPr id="612" name=""/>
            <p:cNvSpPr/>
            <p:nvPr/>
          </p:nvSpPr>
          <p:spPr>
            <a:xfrm>
              <a:off x="457200" y="28954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aproximace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352680" y="2895480"/>
                  <a:ext cx="19400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"/>
          <p:cNvGrpSpPr/>
          <p:nvPr/>
        </p:nvGrpSpPr>
        <p:grpSpPr>
          <a:xfrm>
            <a:off x="457200" y="3809880"/>
            <a:ext cx="3983040" cy="276480"/>
            <a:chOff x="457200" y="3809880"/>
            <a:chExt cx="3983040" cy="276480"/>
          </a:xfrm>
        </p:grpSpPr>
        <p:sp>
          <p:nvSpPr>
            <p:cNvPr id="615" name=""/>
            <p:cNvSpPr/>
            <p:nvPr/>
          </p:nvSpPr>
          <p:spPr>
            <a:xfrm>
              <a:off x="457200" y="38098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řec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3352680" y="3809880"/>
                  <a:ext cx="108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"/>
          <p:cNvGrpSpPr/>
          <p:nvPr/>
        </p:nvGrpSpPr>
        <p:grpSpPr>
          <a:xfrm>
            <a:off x="457200" y="4114800"/>
            <a:ext cx="4219560" cy="285840"/>
            <a:chOff x="457200" y="4114800"/>
            <a:chExt cx="4219560" cy="285840"/>
          </a:xfrm>
        </p:grpSpPr>
        <p:sp>
          <p:nvSpPr>
            <p:cNvPr id="618" name=""/>
            <p:cNvSpPr/>
            <p:nvPr/>
          </p:nvSpPr>
          <p:spPr>
            <a:xfrm>
              <a:off x="457200" y="41148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3352680" y="4114800"/>
                  <a:ext cx="1324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57200" y="4419720"/>
            <a:ext cx="4248000" cy="298440"/>
            <a:chOff x="457200" y="4419720"/>
            <a:chExt cx="4248000" cy="298440"/>
          </a:xfrm>
        </p:grpSpPr>
        <p:sp>
          <p:nvSpPr>
            <p:cNvPr id="621" name=""/>
            <p:cNvSpPr/>
            <p:nvPr/>
          </p:nvSpPr>
          <p:spPr>
            <a:xfrm>
              <a:off x="457200" y="44197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otáč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3352680" y="4419720"/>
                  <a:ext cx="13525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0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3" name=""/>
          <p:cNvGrpSpPr/>
          <p:nvPr/>
        </p:nvGrpSpPr>
        <p:grpSpPr>
          <a:xfrm>
            <a:off x="457200" y="4724280"/>
            <a:ext cx="3403440" cy="459000"/>
            <a:chOff x="457200" y="4724280"/>
            <a:chExt cx="3403440" cy="459000"/>
          </a:xfrm>
        </p:grpSpPr>
        <p:sp>
          <p:nvSpPr>
            <p:cNvPr id="624" name=""/>
            <p:cNvSpPr/>
            <p:nvPr/>
          </p:nvSpPr>
          <p:spPr>
            <a:xfrm>
              <a:off x="457200" y="47242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ponent zatěžující charakteristi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3352680" y="4800600"/>
                  <a:ext cx="50796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"/>
          <p:cNvGrpSpPr/>
          <p:nvPr/>
        </p:nvGrpSpPr>
        <p:grpSpPr>
          <a:xfrm>
            <a:off x="457200" y="5029200"/>
            <a:ext cx="5184720" cy="299880"/>
            <a:chOff x="457200" y="5029200"/>
            <a:chExt cx="5184720" cy="299880"/>
          </a:xfrm>
        </p:grpSpPr>
        <p:sp>
          <p:nvSpPr>
            <p:cNvPr id="627" name=""/>
            <p:cNvSpPr/>
            <p:nvPr/>
          </p:nvSpPr>
          <p:spPr>
            <a:xfrm>
              <a:off x="457200" y="5029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harakteristika tuhosti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3352680" y="5029200"/>
                  <a:ext cx="22892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ψ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"/>
          <p:cNvGrpSpPr/>
          <p:nvPr/>
        </p:nvGrpSpPr>
        <p:grpSpPr>
          <a:xfrm>
            <a:off x="457200" y="5334120"/>
            <a:ext cx="4670280" cy="285480"/>
            <a:chOff x="457200" y="5334120"/>
            <a:chExt cx="4670280" cy="285480"/>
          </a:xfrm>
        </p:grpSpPr>
        <p:sp>
          <p:nvSpPr>
            <p:cNvPr id="630" name=""/>
            <p:cNvSpPr/>
            <p:nvPr/>
          </p:nvSpPr>
          <p:spPr>
            <a:xfrm>
              <a:off x="457200" y="5334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lineární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352680" y="5334120"/>
                  <a:ext cx="177480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457200" y="5638680"/>
            <a:ext cx="4608360" cy="285840"/>
            <a:chOff x="457200" y="5638680"/>
            <a:chExt cx="4608360" cy="285840"/>
          </a:xfrm>
        </p:grpSpPr>
        <p:sp>
          <p:nvSpPr>
            <p:cNvPr id="633" name=""/>
            <p:cNvSpPr/>
            <p:nvPr/>
          </p:nvSpPr>
          <p:spPr>
            <a:xfrm>
              <a:off x="457200" y="5638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vadrat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3352680" y="5638680"/>
                  <a:ext cx="17128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457200" y="5943600"/>
            <a:ext cx="4619520" cy="299880"/>
            <a:chOff x="457200" y="5943600"/>
            <a:chExt cx="4619520" cy="299880"/>
          </a:xfrm>
        </p:grpSpPr>
        <p:sp>
          <p:nvSpPr>
            <p:cNvPr id="636" name=""/>
            <p:cNvSpPr/>
            <p:nvPr/>
          </p:nvSpPr>
          <p:spPr>
            <a:xfrm>
              <a:off x="457200" y="5943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ub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52680" y="5943600"/>
                  <a:ext cx="17240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dnoty parametrů pohonu v rovnovážném stav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80880" y="1828800"/>
            <a:ext cx="4557960" cy="276480"/>
            <a:chOff x="380880" y="1828800"/>
            <a:chExt cx="4557960" cy="276480"/>
          </a:xfrm>
        </p:grpSpPr>
        <p:sp>
          <p:nvSpPr>
            <p:cNvPr id="640" name=""/>
            <p:cNvSpPr/>
            <p:nvPr/>
          </p:nvSpPr>
          <p:spPr>
            <a:xfrm>
              <a:off x="380880" y="18288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3581280" y="1828800"/>
                  <a:ext cx="135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675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"/>
          <p:cNvGrpSpPr/>
          <p:nvPr/>
        </p:nvGrpSpPr>
        <p:grpSpPr>
          <a:xfrm>
            <a:off x="380880" y="1523880"/>
            <a:ext cx="4597560" cy="287280"/>
            <a:chOff x="380880" y="1523880"/>
            <a:chExt cx="4597560" cy="287280"/>
          </a:xfrm>
        </p:grpSpPr>
        <p:sp>
          <p:nvSpPr>
            <p:cNvPr id="643" name=""/>
            <p:cNvSpPr/>
            <p:nvPr/>
          </p:nvSpPr>
          <p:spPr>
            <a:xfrm>
              <a:off x="380880" y="15238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3581280" y="1523880"/>
                  <a:ext cx="139716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54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5" name=""/>
          <p:cNvGrpSpPr/>
          <p:nvPr/>
        </p:nvGrpSpPr>
        <p:grpSpPr>
          <a:xfrm>
            <a:off x="380880" y="1219320"/>
            <a:ext cx="4308480" cy="285480"/>
            <a:chOff x="380880" y="1219320"/>
            <a:chExt cx="4308480" cy="285480"/>
          </a:xfrm>
        </p:grpSpPr>
        <p:sp>
          <p:nvSpPr>
            <p:cNvPr id="646" name=""/>
            <p:cNvSpPr/>
            <p:nvPr/>
          </p:nvSpPr>
          <p:spPr>
            <a:xfrm>
              <a:off x="380880" y="12193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3581280" y="1219320"/>
                  <a:ext cx="11080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8" name=""/>
          <p:cNvGrpSpPr/>
          <p:nvPr/>
        </p:nvGrpSpPr>
        <p:grpSpPr>
          <a:xfrm>
            <a:off x="380880" y="2133720"/>
            <a:ext cx="5799240" cy="299880"/>
            <a:chOff x="380880" y="2133720"/>
            <a:chExt cx="5799240" cy="299880"/>
          </a:xfrm>
        </p:grpSpPr>
        <p:sp>
          <p:nvSpPr>
            <p:cNvPr id="649" name=""/>
            <p:cNvSpPr/>
            <p:nvPr/>
          </p:nvSpPr>
          <p:spPr>
            <a:xfrm>
              <a:off x="380880" y="21337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lativní úhlová výchylka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3581280" y="2133720"/>
                  <a:ext cx="2598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4824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a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936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1" name=""/>
          <p:cNvGrpSpPr/>
          <p:nvPr/>
        </p:nvGrpSpPr>
        <p:grpSpPr>
          <a:xfrm>
            <a:off x="380880" y="914400"/>
            <a:ext cx="4308480" cy="285840"/>
            <a:chOff x="380880" y="914400"/>
            <a:chExt cx="4308480" cy="285840"/>
          </a:xfrm>
        </p:grpSpPr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3581280" y="914400"/>
                  <a:ext cx="1108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15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380880" y="9144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0880" y="2438280"/>
            <a:ext cx="4606920" cy="276480"/>
            <a:chOff x="380880" y="2438280"/>
            <a:chExt cx="4606920" cy="276480"/>
          </a:xfrm>
        </p:grpSpPr>
        <p:sp>
          <p:nvSpPr>
            <p:cNvPr id="655" name=""/>
            <p:cNvSpPr/>
            <p:nvPr/>
          </p:nvSpPr>
          <p:spPr>
            <a:xfrm>
              <a:off x="380880" y="24382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3581280" y="2438280"/>
                  <a:ext cx="140652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02532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"/>
          <p:cNvGrpSpPr/>
          <p:nvPr/>
        </p:nvGrpSpPr>
        <p:grpSpPr>
          <a:xfrm>
            <a:off x="380880" y="2743200"/>
            <a:ext cx="4614840" cy="459000"/>
            <a:chOff x="380880" y="2743200"/>
            <a:chExt cx="4614840" cy="459000"/>
          </a:xfrm>
        </p:grpSpPr>
        <p:sp>
          <p:nvSpPr>
            <p:cNvPr id="658" name=""/>
            <p:cNvSpPr/>
            <p:nvPr/>
          </p:nvSpPr>
          <p:spPr>
            <a:xfrm>
              <a:off x="380880" y="274320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81280" y="2743200"/>
                  <a:ext cx="141444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9837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"/>
          <p:cNvSpPr/>
          <p:nvPr/>
        </p:nvSpPr>
        <p:spPr>
          <a:xfrm>
            <a:off x="0" y="3352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Znázornění rozrušeného pohybu ve fázové rovin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7339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ásledující typy poruchových funkcí pracovního stroj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4267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 lichoběž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4648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 obdé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05320" y="4648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. obdé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5029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. parabolick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4267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 lichoběž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5029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 pilovit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5410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. přechod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880" y="5791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 trojúhe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5791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. trojúhe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05320" y="5410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. jednocestný sinus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arabolick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2666880" y="304920"/>
          <a:ext cx="6334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6334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ilovit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289548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řechod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380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ní a simulace pohonových sousta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ílčí etap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371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tavení účelových a částečně strukturovaných modelů základní  mechanické (elektromechanické, …) struktury poh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9810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ů záběrových podmínek a kinematického buzení u převodových subsou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590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u vnějš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724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y technologických, hnacích i parazitních budících účin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7150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 logicko-informačních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9718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ulovat návrh řízení pohonov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352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vrhnout způsob integrace základních struktur, vnějšího prostředí a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4267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ále je zapotřebí zná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goritmizovatelné požadavky na řízení z hlediska technologie, provozu, bezpečnosti, energetických nároků či omezení, ekologie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6320" y="457200"/>
            <a:ext cx="2590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Sinusový jednocestn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81952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057400" y="1523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ahoma"/>
              </a:rPr>
              <a:t>Poděková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28195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Článek vznikl na základě prací podporovaných projekty MSM 262100024 a IBS 207635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5334120" y="3581280"/>
          <a:ext cx="250488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581280"/>
                    <a:ext cx="25048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2786040" cy="28814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762120" y="304920"/>
            <a:ext cx="3317760" cy="27684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5"/>
          <a:stretch/>
        </p:blipFill>
        <p:spPr>
          <a:xfrm>
            <a:off x="5334120" y="533520"/>
            <a:ext cx="2547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143000" y="25146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0000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lokové schéma řízené pohonové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2057400"/>
            <a:ext cx="4267080" cy="2181240"/>
            <a:chOff x="2590920" y="2057400"/>
            <a:chExt cx="4267080" cy="2181240"/>
          </a:xfrm>
        </p:grpSpPr>
        <p:grpSp>
          <p:nvGrpSpPr>
            <p:cNvPr id="98" name=""/>
            <p:cNvGrpSpPr/>
            <p:nvPr/>
          </p:nvGrpSpPr>
          <p:grpSpPr>
            <a:xfrm>
              <a:off x="3276720" y="3276720"/>
              <a:ext cx="1523880" cy="761760"/>
              <a:chOff x="3276720" y="3276720"/>
              <a:chExt cx="1523880" cy="761760"/>
            </a:xfrm>
          </p:grpSpPr>
          <p:sp>
            <p:nvSpPr>
              <p:cNvPr id="99" name=""/>
              <p:cNvSpPr/>
              <p:nvPr/>
            </p:nvSpPr>
            <p:spPr>
              <a:xfrm>
                <a:off x="3276720" y="327672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81280" y="350496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800600" y="2583000"/>
              <a:ext cx="507960" cy="1074600"/>
            </a:xfrm>
            <a:custGeom>
              <a:avLst/>
              <a:gdLst/>
              <a:ahLst/>
              <a:rect l="l" t="t" r="r" b="b"/>
              <a:pathLst>
                <a:path w="320" h="677">
                  <a:moveTo>
                    <a:pt x="320" y="0"/>
                  </a:moveTo>
                  <a:lnTo>
                    <a:pt x="315" y="677"/>
                  </a:lnTo>
                  <a:lnTo>
                    <a:pt x="0" y="67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81952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336" y="528"/>
                  </a:moveTo>
                  <a:lnTo>
                    <a:pt x="0" y="528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057400"/>
              <a:ext cx="2971800" cy="2133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50532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vnitřní regulovaná soust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76520" y="2583000"/>
            <a:ext cx="6400800" cy="3210480"/>
            <a:chOff x="1676520" y="2583000"/>
            <a:chExt cx="6400800" cy="3210480"/>
          </a:xfrm>
        </p:grpSpPr>
        <p:grpSp>
          <p:nvGrpSpPr>
            <p:cNvPr id="106" name=""/>
            <p:cNvGrpSpPr/>
            <p:nvPr/>
          </p:nvGrpSpPr>
          <p:grpSpPr>
            <a:xfrm>
              <a:off x="3276720" y="4343400"/>
              <a:ext cx="1752120" cy="762120"/>
              <a:chOff x="3276720" y="4343400"/>
              <a:chExt cx="1752120" cy="762120"/>
            </a:xfrm>
          </p:grpSpPr>
          <p:sp>
            <p:nvSpPr>
              <p:cNvPr id="107" name=""/>
              <p:cNvSpPr/>
              <p:nvPr/>
            </p:nvSpPr>
            <p:spPr>
              <a:xfrm>
                <a:off x="3276720" y="434340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29000" y="4496040"/>
                <a:ext cx="159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hodnocení regu-lované veličin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800600" y="2583000"/>
              <a:ext cx="3198960" cy="2141280"/>
            </a:xfrm>
            <a:custGeom>
              <a:avLst/>
              <a:gdLst/>
              <a:ahLst/>
              <a:rect l="l" t="t" r="r" b="b"/>
              <a:pathLst>
                <a:path w="2015" h="1349">
                  <a:moveTo>
                    <a:pt x="2015" y="0"/>
                  </a:moveTo>
                  <a:lnTo>
                    <a:pt x="2009" y="1342"/>
                  </a:lnTo>
                  <a:lnTo>
                    <a:pt x="0" y="1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2971800"/>
              <a:ext cx="1600200" cy="1752480"/>
            </a:xfrm>
            <a:custGeom>
              <a:avLst/>
              <a:gdLst/>
              <a:ahLst/>
              <a:rect l="l" t="t" r="r" b="b"/>
              <a:pathLst>
                <a:path w="1008" h="1104">
                  <a:moveTo>
                    <a:pt x="0" y="0"/>
                  </a:moveTo>
                  <a:lnTo>
                    <a:pt x="0" y="1104"/>
                  </a:lnTo>
                  <a:lnTo>
                    <a:pt x="1008" y="110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72428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v technologického výrobního proce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961800" y="5181480"/>
              <a:ext cx="609480" cy="533520"/>
            </a:xfrm>
            <a:custGeom>
              <a:avLst/>
              <a:gdLst>
                <a:gd name="textAreaLeft" fmla="*/ 295560 w 609480"/>
                <a:gd name="textAreaRight" fmla="*/ 504720 w 609480"/>
                <a:gd name="textAreaTop" fmla="*/ 351720 h 533520"/>
                <a:gd name="textAreaBottom" fmla="*/ 4420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943"/>
                  </a:moveTo>
                  <a:lnTo>
                    <a:pt x="14231" y="17943"/>
                  </a:lnTo>
                  <a:lnTo>
                    <a:pt x="14231" y="10479"/>
                  </a:lnTo>
                  <a:lnTo>
                    <a:pt x="10519" y="10479"/>
                  </a:lnTo>
                  <a:lnTo>
                    <a:pt x="16060" y="0"/>
                  </a:lnTo>
                  <a:lnTo>
                    <a:pt x="21600" y="10479"/>
                  </a:lnTo>
                  <a:lnTo>
                    <a:pt x="17888" y="10479"/>
                  </a:lnTo>
                  <a:lnTo>
                    <a:pt x="1788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5486400"/>
              <a:ext cx="32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nadřazená technologick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1981080"/>
            <a:ext cx="8915400" cy="3507120"/>
            <a:chOff x="152280" y="1981080"/>
            <a:chExt cx="8915400" cy="3507120"/>
          </a:xfrm>
        </p:grpSpPr>
        <p:grpSp>
          <p:nvGrpSpPr>
            <p:cNvPr id="115" name=""/>
            <p:cNvGrpSpPr/>
            <p:nvPr/>
          </p:nvGrpSpPr>
          <p:grpSpPr>
            <a:xfrm>
              <a:off x="838080" y="2209680"/>
              <a:ext cx="1600200" cy="762120"/>
              <a:chOff x="838080" y="2209680"/>
              <a:chExt cx="1600200" cy="762120"/>
            </a:xfrm>
          </p:grpSpPr>
          <p:sp>
            <p:nvSpPr>
              <p:cNvPr id="116" name=""/>
              <p:cNvSpPr/>
              <p:nvPr/>
            </p:nvSpPr>
            <p:spPr>
              <a:xfrm>
                <a:off x="83808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66680" y="236196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technologický regulá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76720" y="2209680"/>
              <a:ext cx="1523880" cy="762120"/>
              <a:chOff x="3276720" y="2209680"/>
              <a:chExt cx="15238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7672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2900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ý pohon strojní soustav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943600" y="2209680"/>
              <a:ext cx="1752480" cy="761760"/>
              <a:chOff x="5943600" y="220968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5943600" y="220968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5880" y="236196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model technolo-gického proces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72960" y="2590920"/>
              <a:ext cx="2184480" cy="2735280"/>
            </a:xfrm>
            <a:custGeom>
              <a:avLst/>
              <a:gdLst/>
              <a:ahLst/>
              <a:rect l="l" t="t" r="r" b="b"/>
              <a:pathLst>
                <a:path w="1376" h="1723">
                  <a:moveTo>
                    <a:pt x="293" y="0"/>
                  </a:moveTo>
                  <a:lnTo>
                    <a:pt x="5" y="0"/>
                  </a:lnTo>
                  <a:lnTo>
                    <a:pt x="0" y="1723"/>
                  </a:lnTo>
                  <a:lnTo>
                    <a:pt x="1376" y="1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2590920"/>
              <a:ext cx="914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2590920"/>
              <a:ext cx="1138320" cy="1440"/>
            </a:xfrm>
            <a:custGeom>
              <a:avLst/>
              <a:gdLst/>
              <a:ahLst/>
              <a:rect l="l" t="t" r="r" b="b"/>
              <a:pathLst>
                <a:path w="717" h="1">
                  <a:moveTo>
                    <a:pt x="0" y="0"/>
                  </a:moveTo>
                  <a:lnTo>
                    <a:pt x="717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2590920"/>
              <a:ext cx="1219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02920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žádané počáteční hodno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1981080"/>
              <a:ext cx="152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ýstup: regulovaná stavová velič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280" y="2133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st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1295280"/>
            <a:ext cx="1676520" cy="838440"/>
            <a:chOff x="1143000" y="1295280"/>
            <a:chExt cx="1676520" cy="838440"/>
          </a:xfrm>
        </p:grpSpPr>
        <p:sp>
          <p:nvSpPr>
            <p:cNvPr id="132" name=""/>
            <p:cNvSpPr/>
            <p:nvPr/>
          </p:nvSpPr>
          <p:spPr>
            <a:xfrm>
              <a:off x="11430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12952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regul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05320" y="1295280"/>
            <a:ext cx="1600200" cy="838440"/>
            <a:chOff x="3505320" y="1295280"/>
            <a:chExt cx="1600200" cy="838440"/>
          </a:xfrm>
        </p:grpSpPr>
        <p:sp>
          <p:nvSpPr>
            <p:cNvPr id="135" name=""/>
            <p:cNvSpPr/>
            <p:nvPr/>
          </p:nvSpPr>
          <p:spPr>
            <a:xfrm>
              <a:off x="350532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12952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poho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72200" y="1295280"/>
            <a:ext cx="2133720" cy="838440"/>
            <a:chOff x="6172200" y="1295280"/>
            <a:chExt cx="2133720" cy="838440"/>
          </a:xfrm>
        </p:grpSpPr>
        <p:sp>
          <p:nvSpPr>
            <p:cNvPr id="138" name=""/>
            <p:cNvSpPr/>
            <p:nvPr/>
          </p:nvSpPr>
          <p:spPr>
            <a:xfrm>
              <a:off x="61722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129528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echnologické poruc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 soustava pohonu válcovací st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1371600"/>
            <a:ext cx="7239240" cy="4267080"/>
            <a:chOff x="609480" y="1371600"/>
            <a:chExt cx="7239240" cy="4267080"/>
          </a:xfrm>
        </p:grpSpPr>
        <p:sp>
          <p:nvSpPr>
            <p:cNvPr id="142" name=""/>
            <p:cNvSpPr/>
            <p:nvPr/>
          </p:nvSpPr>
          <p:spPr>
            <a:xfrm>
              <a:off x="762120" y="4343400"/>
              <a:ext cx="1295280" cy="7621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91440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90512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449568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6880" y="350532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743200" y="3885840"/>
              <a:ext cx="1066680" cy="15228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280"/>
                <a:gd name="textAreaBottom" fmla="*/ 12456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3352680"/>
              <a:ext cx="1066680" cy="15264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640"/>
                <a:gd name="textAreaBottom" fmla="*/ 1249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373356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495680" y="121896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4495680" y="1980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5410080" y="160020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541008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324480" y="106668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632448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31520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3581280"/>
              <a:ext cx="60984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3581280"/>
              <a:ext cx="60948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4648320"/>
              <a:ext cx="6094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388620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3812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009960" y="2476080"/>
              <a:ext cx="160020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2956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057720" y="2018520"/>
              <a:ext cx="68580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6896160" y="3009600"/>
              <a:ext cx="99036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5905440" y="3009240"/>
              <a:ext cx="99036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09880" y="1371600"/>
              <a:ext cx="0" cy="22860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3962520"/>
              <a:ext cx="9144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9480" y="4724280"/>
              <a:ext cx="2286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523880"/>
              <a:ext cx="0" cy="41148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91520" y="2362320"/>
              <a:ext cx="0" cy="32763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3581280"/>
            <a:ext cx="1752480" cy="1828800"/>
            <a:chOff x="457200" y="3581280"/>
            <a:chExt cx="1752480" cy="1828800"/>
          </a:xfrm>
        </p:grpSpPr>
        <p:sp>
          <p:nvSpPr>
            <p:cNvPr id="175" name=""/>
            <p:cNvSpPr/>
            <p:nvPr/>
          </p:nvSpPr>
          <p:spPr>
            <a:xfrm>
              <a:off x="533520" y="4038480"/>
              <a:ext cx="1676160" cy="137160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3581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Mo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62320" y="3124080"/>
            <a:ext cx="2209680" cy="2700000"/>
            <a:chOff x="2362320" y="3124080"/>
            <a:chExt cx="2209680" cy="2700000"/>
          </a:xfrm>
        </p:grpSpPr>
        <p:sp>
          <p:nvSpPr>
            <p:cNvPr id="178" name=""/>
            <p:cNvSpPr/>
            <p:nvPr/>
          </p:nvSpPr>
          <p:spPr>
            <a:xfrm>
              <a:off x="2438280" y="3124080"/>
              <a:ext cx="2133720" cy="19814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51814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Tahoma"/>
                </a:rPr>
                <a:t>Kuželočelní převodov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66680" y="1371600"/>
            <a:ext cx="7010640" cy="1447920"/>
            <a:chOff x="1066680" y="1371600"/>
            <a:chExt cx="7010640" cy="1447920"/>
          </a:xfrm>
        </p:grpSpPr>
        <p:sp>
          <p:nvSpPr>
            <p:cNvPr id="181" name=""/>
            <p:cNvSpPr/>
            <p:nvPr/>
          </p:nvSpPr>
          <p:spPr>
            <a:xfrm>
              <a:off x="3276720" y="1371600"/>
              <a:ext cx="4800600" cy="14479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37160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Převodovka s čelním ozubení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1320" y="3352680"/>
            <a:ext cx="2209680" cy="2806920"/>
            <a:chOff x="5791320" y="3352680"/>
            <a:chExt cx="2209680" cy="2806920"/>
          </a:xfrm>
        </p:grpSpPr>
        <p:sp>
          <p:nvSpPr>
            <p:cNvPr id="184" name=""/>
            <p:cNvSpPr/>
            <p:nvPr/>
          </p:nvSpPr>
          <p:spPr>
            <a:xfrm>
              <a:off x="5867280" y="3352680"/>
              <a:ext cx="2057400" cy="23623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1320" y="57913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álcovací st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Model mechanického subsystému poh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990720"/>
            <a:ext cx="1371600" cy="1904760"/>
            <a:chOff x="914400" y="990720"/>
            <a:chExt cx="1371600" cy="1904760"/>
          </a:xfrm>
        </p:grpSpPr>
        <p:sp>
          <p:nvSpPr>
            <p:cNvPr id="188" name=""/>
            <p:cNvSpPr/>
            <p:nvPr/>
          </p:nvSpPr>
          <p:spPr>
            <a:xfrm>
              <a:off x="11430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990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438280" y="990720"/>
            <a:ext cx="1981440" cy="1904760"/>
            <a:chOff x="2438280" y="990720"/>
            <a:chExt cx="1981440" cy="1904760"/>
          </a:xfrm>
        </p:grpSpPr>
        <p:sp>
          <p:nvSpPr>
            <p:cNvPr id="192" name=""/>
            <p:cNvSpPr/>
            <p:nvPr/>
          </p:nvSpPr>
          <p:spPr>
            <a:xfrm>
              <a:off x="3276720" y="1371600"/>
              <a:ext cx="30456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280" y="990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uželo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572000" y="990720"/>
            <a:ext cx="1981080" cy="1904760"/>
            <a:chOff x="4572000" y="990720"/>
            <a:chExt cx="1981080" cy="1904760"/>
          </a:xfrm>
        </p:grpSpPr>
        <p:sp>
          <p:nvSpPr>
            <p:cNvPr id="197" name=""/>
            <p:cNvSpPr/>
            <p:nvPr/>
          </p:nvSpPr>
          <p:spPr>
            <a:xfrm>
              <a:off x="541008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5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9907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705720" y="990720"/>
            <a:ext cx="1676160" cy="1904760"/>
            <a:chOff x="6705720" y="990720"/>
            <a:chExt cx="1676160" cy="1904760"/>
          </a:xfrm>
        </p:grpSpPr>
        <p:sp>
          <p:nvSpPr>
            <p:cNvPr id="202" name=""/>
            <p:cNvSpPr/>
            <p:nvPr/>
          </p:nvSpPr>
          <p:spPr>
            <a:xfrm>
              <a:off x="75438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057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9907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álcovací sto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62120" y="1371600"/>
            <a:ext cx="1752480" cy="1924200"/>
            <a:chOff x="762120" y="1371600"/>
            <a:chExt cx="1752480" cy="1924200"/>
          </a:xfrm>
        </p:grpSpPr>
        <p:sp>
          <p:nvSpPr>
            <p:cNvPr id="206" name=""/>
            <p:cNvSpPr/>
            <p:nvPr/>
          </p:nvSpPr>
          <p:spPr>
            <a:xfrm rot="16200000">
              <a:off x="15620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62120" y="2590920"/>
              <a:ext cx="850680" cy="704880"/>
              <a:chOff x="762120" y="2590920"/>
              <a:chExt cx="850680" cy="70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762120" y="2590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990720" y="2971800"/>
                    <a:ext cx="622080" cy="3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11" name=""/>
          <p:cNvGrpSpPr/>
          <p:nvPr/>
        </p:nvGrpSpPr>
        <p:grpSpPr>
          <a:xfrm>
            <a:off x="2895480" y="2590920"/>
            <a:ext cx="862200" cy="704880"/>
            <a:chOff x="2895480" y="2590920"/>
            <a:chExt cx="862200" cy="704880"/>
          </a:xfrm>
        </p:grpSpPr>
        <p:sp>
          <p:nvSpPr>
            <p:cNvPr id="212" name=""/>
            <p:cNvSpPr/>
            <p:nvPr/>
          </p:nvSpPr>
          <p:spPr>
            <a:xfrm>
              <a:off x="289548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124080" y="2971800"/>
                  <a:ext cx="6336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5029200" y="2590920"/>
            <a:ext cx="873000" cy="723960"/>
            <a:chOff x="5029200" y="2590920"/>
            <a:chExt cx="873000" cy="723960"/>
          </a:xfrm>
        </p:grpSpPr>
        <p:sp>
          <p:nvSpPr>
            <p:cNvPr id="215" name=""/>
            <p:cNvSpPr/>
            <p:nvPr/>
          </p:nvSpPr>
          <p:spPr>
            <a:xfrm>
              <a:off x="502920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25780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6553080" y="1371600"/>
            <a:ext cx="1482840" cy="1943280"/>
            <a:chOff x="6553080" y="1371600"/>
            <a:chExt cx="1482840" cy="1943280"/>
          </a:xfrm>
        </p:grpSpPr>
        <p:sp>
          <p:nvSpPr>
            <p:cNvPr id="218" name=""/>
            <p:cNvSpPr/>
            <p:nvPr/>
          </p:nvSpPr>
          <p:spPr>
            <a:xfrm flipH="1" rot="5400000">
              <a:off x="68198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2920" y="25909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39152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"/>
          <p:cNvGrpSpPr/>
          <p:nvPr/>
        </p:nvGrpSpPr>
        <p:grpSpPr>
          <a:xfrm>
            <a:off x="1676520" y="2209680"/>
            <a:ext cx="1600200" cy="336240"/>
            <a:chOff x="1676520" y="2209680"/>
            <a:chExt cx="1600200" cy="336240"/>
          </a:xfrm>
        </p:grpSpPr>
        <p:sp>
          <p:nvSpPr>
            <p:cNvPr id="223" name=""/>
            <p:cNvSpPr/>
            <p:nvPr/>
          </p:nvSpPr>
          <p:spPr>
            <a:xfrm>
              <a:off x="16765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2209680" y="2209680"/>
                  <a:ext cx="3492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3809880" y="2209680"/>
            <a:ext cx="1600200" cy="341280"/>
            <a:chOff x="3809880" y="2209680"/>
            <a:chExt cx="1600200" cy="341280"/>
          </a:xfrm>
        </p:grpSpPr>
        <p:sp>
          <p:nvSpPr>
            <p:cNvPr id="227" name=""/>
            <p:cNvSpPr/>
            <p:nvPr/>
          </p:nvSpPr>
          <p:spPr>
            <a:xfrm>
              <a:off x="380988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343400" y="2209680"/>
                  <a:ext cx="355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5943600" y="2209680"/>
            <a:ext cx="1523880" cy="341280"/>
            <a:chOff x="5943600" y="2209680"/>
            <a:chExt cx="1523880" cy="341280"/>
          </a:xfrm>
        </p:grpSpPr>
        <p:sp>
          <p:nvSpPr>
            <p:cNvPr id="231" name=""/>
            <p:cNvSpPr/>
            <p:nvPr/>
          </p:nvSpPr>
          <p:spPr>
            <a:xfrm>
              <a:off x="59436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43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477120" y="2209680"/>
                  <a:ext cx="35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990720" y="2133720"/>
            <a:ext cx="7007040" cy="2880"/>
          </a:xfrm>
          <a:custGeom>
            <a:avLst/>
            <a:gdLst/>
            <a:ahLst/>
            <a:rect l="l" t="t" r="r" b="b"/>
            <a:pathLst>
              <a:path w="4414" h="2">
                <a:moveTo>
                  <a:pt x="0" y="0"/>
                </a:moveTo>
                <a:lnTo>
                  <a:pt x="4414" y="2"/>
                </a:lnTo>
              </a:path>
            </a:pathLst>
          </a:custGeom>
          <a:noFill/>
          <a:ln w="648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35812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ýznam jednotlivých veliči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88620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J  …… momenty setrvačnosti přislušných mechanických subsystémů, redukovaných na výstup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hřídel motor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49568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  …… konstanty tuhosti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 …… konstanty tlumení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" y="5105520"/>
            <a:ext cx="7467120" cy="323280"/>
            <a:chOff x="685800" y="5105520"/>
            <a:chExt cx="7467120" cy="3232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85800" y="5181480"/>
                  <a:ext cx="21888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838080" y="510552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výchylka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5800" y="5410080"/>
            <a:ext cx="7467120" cy="307080"/>
            <a:chOff x="685800" y="5410080"/>
            <a:chExt cx="7467120" cy="3070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85800" y="5486400"/>
                  <a:ext cx="22356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838080" y="541008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rychlost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5800" y="5715000"/>
            <a:ext cx="7467120" cy="320400"/>
            <a:chOff x="685800" y="5715000"/>
            <a:chExt cx="7467120" cy="32040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85800" y="5790960"/>
                  <a:ext cx="2300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838080" y="571500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lativní úhlová výchylka mezi příslušnými mechanickými subsystém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minu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990720"/>
            <a:ext cx="1676160" cy="2743200"/>
            <a:chOff x="0" y="990720"/>
            <a:chExt cx="1676160" cy="2743200"/>
          </a:xfrm>
        </p:grpSpPr>
        <p:grpSp>
          <p:nvGrpSpPr>
            <p:cNvPr id="250" name=""/>
            <p:cNvGrpSpPr/>
            <p:nvPr/>
          </p:nvGrpSpPr>
          <p:grpSpPr>
            <a:xfrm>
              <a:off x="837720" y="990720"/>
              <a:ext cx="838440" cy="2743200"/>
              <a:chOff x="837720" y="990720"/>
              <a:chExt cx="838440" cy="274320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837720" y="3733920"/>
                <a:ext cx="83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8080" y="992160"/>
                <a:ext cx="489240" cy="3240"/>
              </a:xfrm>
              <a:custGeom>
                <a:avLst/>
                <a:gdLst/>
                <a:ahLst/>
                <a:rect l="l" t="t" r="r" b="b"/>
                <a:pathLst>
                  <a:path w="308" h="2">
                    <a:moveTo>
                      <a:pt x="308" y="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914400" y="990720"/>
                <a:ext cx="0" cy="27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0" y="198144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ahoma"/>
                </a:rPr>
                <a:t>Otáčk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00200" y="4191120"/>
            <a:ext cx="1905120" cy="1752480"/>
            <a:chOff x="1600200" y="4191120"/>
            <a:chExt cx="1905120" cy="1752480"/>
          </a:xfrm>
        </p:grpSpPr>
        <p:grpSp>
          <p:nvGrpSpPr>
            <p:cNvPr id="256" name=""/>
            <p:cNvGrpSpPr/>
            <p:nvPr/>
          </p:nvGrpSpPr>
          <p:grpSpPr>
            <a:xfrm>
              <a:off x="1600200" y="4191120"/>
              <a:ext cx="1905120" cy="1752480"/>
              <a:chOff x="1600200" y="4191120"/>
              <a:chExt cx="1905120" cy="17524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1600200" y="4191120"/>
                <a:ext cx="0" cy="175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50532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00200" y="5867640"/>
                <a:ext cx="190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057400" y="53341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ud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505320" y="4648320"/>
            <a:ext cx="1676160" cy="1295280"/>
            <a:chOff x="3505320" y="4648320"/>
            <a:chExt cx="1676160" cy="1295280"/>
          </a:xfrm>
        </p:grpSpPr>
        <p:grpSp>
          <p:nvGrpSpPr>
            <p:cNvPr id="262" name=""/>
            <p:cNvGrpSpPr/>
            <p:nvPr/>
          </p:nvGrpSpPr>
          <p:grpSpPr>
            <a:xfrm>
              <a:off x="3505320" y="4648320"/>
              <a:ext cx="1676160" cy="1295280"/>
              <a:chOff x="3505320" y="4648320"/>
              <a:chExt cx="1676160" cy="129528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518148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5867640"/>
                <a:ext cx="167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733920" y="533412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yristorový měni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876920" y="2057400"/>
            <a:ext cx="3886200" cy="1371600"/>
            <a:chOff x="4876920" y="2057400"/>
            <a:chExt cx="3886200" cy="1371600"/>
          </a:xfrm>
        </p:grpSpPr>
        <p:grpSp>
          <p:nvGrpSpPr>
            <p:cNvPr id="267" name=""/>
            <p:cNvGrpSpPr/>
            <p:nvPr/>
          </p:nvGrpSpPr>
          <p:grpSpPr>
            <a:xfrm>
              <a:off x="4876920" y="2286000"/>
              <a:ext cx="3886200" cy="1143000"/>
              <a:chOff x="4876920" y="2286000"/>
              <a:chExt cx="3886200" cy="114300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69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631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76920" y="2362320"/>
                <a:ext cx="3886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410080" y="205740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cionárně buzený DC mo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1219320"/>
            <a:ext cx="7848720" cy="4771080"/>
            <a:chOff x="1143000" y="1219320"/>
            <a:chExt cx="7848720" cy="4771080"/>
          </a:xfrm>
        </p:grpSpPr>
        <p:grpSp>
          <p:nvGrpSpPr>
            <p:cNvPr id="273" name=""/>
            <p:cNvGrpSpPr/>
            <p:nvPr/>
          </p:nvGrpSpPr>
          <p:grpSpPr>
            <a:xfrm>
              <a:off x="1293840" y="1219320"/>
              <a:ext cx="7507440" cy="4725720"/>
              <a:chOff x="1293840" y="1219320"/>
              <a:chExt cx="7507440" cy="47257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293840" y="1219320"/>
                <a:ext cx="7507440" cy="4725720"/>
                <a:chOff x="1293840" y="1219320"/>
                <a:chExt cx="7507440" cy="47257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7467480" y="4039920"/>
                  <a:ext cx="304560" cy="304560"/>
                  <a:chOff x="7467480" y="4039920"/>
                  <a:chExt cx="304560" cy="3045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7467480" y="4039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314840" y="4954680"/>
                  <a:ext cx="609480" cy="609480"/>
                  <a:chOff x="7314840" y="4954680"/>
                  <a:chExt cx="609480" cy="6094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5400000">
                    <a:off x="7314840" y="495468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400000">
                    <a:off x="7617600" y="503244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600200" y="2820960"/>
                  <a:ext cx="761760" cy="761760"/>
                  <a:chOff x="1600200" y="2820960"/>
                  <a:chExt cx="761760" cy="7617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1600200" y="282096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684800" y="290556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V="1">
                    <a:off x="1684800" y="299052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5400000">
                  <a:off x="1827000" y="19810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1979640" y="121932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5400000">
                  <a:off x="1103400" y="140976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79640" y="228600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5400000">
                  <a:off x="1827000" y="40384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979640" y="358128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029200" y="40402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809880" y="3811680"/>
                  <a:ext cx="1099800" cy="1183680"/>
                  <a:chOff x="3809880" y="3811680"/>
                  <a:chExt cx="1099800" cy="11836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3894480" y="398052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809880" y="381168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894480" y="389592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791320" y="3811680"/>
                  <a:ext cx="1099080" cy="1183680"/>
                  <a:chOff x="5791320" y="3811680"/>
                  <a:chExt cx="1099080" cy="11836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>
                    <a:off x="5875920" y="398052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7913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875920" y="389592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2590920" y="3811680"/>
                  <a:ext cx="761400" cy="761400"/>
                  <a:chOff x="2590920" y="3811680"/>
                  <a:chExt cx="761400" cy="7614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5909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675520" y="389628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2675520" y="398052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21337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5268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57200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341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6858000" y="2896920"/>
                  <a:ext cx="304560" cy="304560"/>
                  <a:chOff x="6858000" y="2896920"/>
                  <a:chExt cx="304560" cy="3045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6858000" y="2896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6553080" y="419256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181480" y="304956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29600" y="419256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81080" y="419256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20120" y="434484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62920" y="304956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81680" y="525924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77120" y="586908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29400" y="594504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2057400" y="19828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3880" y="1754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4192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81480" y="3735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3880" y="3811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0200" y="42688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391520" y="373536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6781680" y="259236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1143000" y="2820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43000" y="32018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00200" y="4649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80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48720" y="541188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13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345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1066680"/>
            <a:ext cx="7848720" cy="4771080"/>
            <a:chOff x="609480" y="1066680"/>
            <a:chExt cx="7848720" cy="4771080"/>
          </a:xfrm>
        </p:grpSpPr>
        <p:grpSp>
          <p:nvGrpSpPr>
            <p:cNvPr id="347" name=""/>
            <p:cNvGrpSpPr/>
            <p:nvPr/>
          </p:nvGrpSpPr>
          <p:grpSpPr>
            <a:xfrm>
              <a:off x="760320" y="1066680"/>
              <a:ext cx="7507440" cy="4725720"/>
              <a:chOff x="760320" y="1066680"/>
              <a:chExt cx="7507440" cy="4725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60320" y="1066680"/>
                <a:ext cx="7507440" cy="4725720"/>
                <a:chOff x="760320" y="1066680"/>
                <a:chExt cx="7507440" cy="47257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6933960" y="3887280"/>
                  <a:ext cx="304560" cy="304560"/>
                  <a:chOff x="6933960" y="3887280"/>
                  <a:chExt cx="304560" cy="304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6933960" y="388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781320" y="4802040"/>
                  <a:ext cx="609480" cy="609480"/>
                  <a:chOff x="6781320" y="4802040"/>
                  <a:chExt cx="609480" cy="6094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5400000">
                    <a:off x="6781320" y="480204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5400000">
                    <a:off x="7084080" y="487980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1066680" y="2668320"/>
                  <a:ext cx="761760" cy="761760"/>
                  <a:chOff x="1066680" y="2668320"/>
                  <a:chExt cx="761760" cy="7617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1066680" y="266832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151280" y="275292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1151280" y="283788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rot="5400000">
                  <a:off x="1293480" y="18284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1446120" y="106668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569520" y="125712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46120" y="213336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5400000">
                  <a:off x="1293480" y="38858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446120" y="342864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95680" y="38876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3276360" y="3659040"/>
                  <a:ext cx="1099800" cy="1183680"/>
                  <a:chOff x="3276360" y="3659040"/>
                  <a:chExt cx="1099800" cy="1183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>
                    <a:off x="3360960" y="382788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76360" y="365904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360960" y="374328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57800" y="3659040"/>
                  <a:ext cx="1099080" cy="1183680"/>
                  <a:chOff x="5257800" y="3659040"/>
                  <a:chExt cx="1099080" cy="1183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342400" y="382788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578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2400" y="374328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2057400" y="3659040"/>
                  <a:ext cx="761400" cy="761400"/>
                  <a:chOff x="2057400" y="3659040"/>
                  <a:chExt cx="761400" cy="7614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20574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42000" y="374364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V="1">
                    <a:off x="2142000" y="382788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6002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81916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03848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006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324480" y="2744280"/>
                  <a:ext cx="304560" cy="304560"/>
                  <a:chOff x="6324480" y="2744280"/>
                  <a:chExt cx="304560" cy="3045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V="1">
                    <a:off x="6324480" y="2744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6019560" y="403992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647960" y="289692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696080" y="403992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47560" y="403992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086600" y="419220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29400" y="289692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48160" y="510660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43600" y="571644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095880" y="579240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523880" y="1830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90360" y="16016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90760" y="4039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7960" y="358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90360" y="3659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66680" y="4116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858000" y="358272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248160" y="243972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609480" y="26683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30492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4497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16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74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19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7560" y="3506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84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7636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128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722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525924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3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0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724280" y="1295280"/>
            <a:ext cx="4191120" cy="4724640"/>
            <a:chOff x="4724280" y="1295280"/>
            <a:chExt cx="4191120" cy="4724640"/>
          </a:xfrm>
        </p:grpSpPr>
        <p:sp>
          <p:nvSpPr>
            <p:cNvPr id="420" name=""/>
            <p:cNvSpPr/>
            <p:nvPr/>
          </p:nvSpPr>
          <p:spPr>
            <a:xfrm>
              <a:off x="4952880" y="2057400"/>
              <a:ext cx="3810240" cy="39625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24280" y="129528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Změna stacionárně buzeného DC motoru za nestacionárně buzený DC motor s uvažováním změny magnetického toku cívky budícího vinu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04920" y="1143000"/>
            <a:ext cx="8226360" cy="4930920"/>
            <a:chOff x="304920" y="1143000"/>
            <a:chExt cx="8226360" cy="4930920"/>
          </a:xfrm>
        </p:grpSpPr>
        <p:grpSp>
          <p:nvGrpSpPr>
            <p:cNvPr id="423" name=""/>
            <p:cNvGrpSpPr/>
            <p:nvPr/>
          </p:nvGrpSpPr>
          <p:grpSpPr>
            <a:xfrm>
              <a:off x="2057400" y="1143000"/>
              <a:ext cx="4876920" cy="1718280"/>
              <a:chOff x="2057400" y="1143000"/>
              <a:chExt cx="4876920" cy="17182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819520" y="1676520"/>
                <a:ext cx="1099080" cy="1184760"/>
                <a:chOff x="2819520" y="1676520"/>
                <a:chExt cx="1099080" cy="118476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2904120" y="184572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819520" y="167652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904120" y="176076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343400" y="1676520"/>
                <a:ext cx="1099800" cy="1184760"/>
                <a:chOff x="4343400" y="1676520"/>
                <a:chExt cx="1099800" cy="118476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4428000" y="1845720"/>
                  <a:ext cx="101520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43400" y="1676520"/>
                  <a:ext cx="76176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8000" y="1760760"/>
                  <a:ext cx="59220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0574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956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576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954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5638680" y="1676520"/>
                <a:ext cx="1218600" cy="762120"/>
                <a:chOff x="5638680" y="1676520"/>
                <a:chExt cx="1218600" cy="762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867280" y="167652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48160" y="1752840"/>
                  <a:ext cx="0" cy="609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943240" y="2057400"/>
                  <a:ext cx="609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5638680" y="1751760"/>
                  <a:ext cx="609120" cy="60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6248160" y="1752840"/>
                  <a:ext cx="60912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05740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05520" y="205740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8128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148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86400" y="1143000"/>
                <a:ext cx="144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agnetizační charakteristik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04920" y="1752840"/>
              <a:ext cx="8226360" cy="4321080"/>
              <a:chOff x="304920" y="1752840"/>
              <a:chExt cx="8226360" cy="432108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3200400" y="5181480"/>
                <a:ext cx="304560" cy="304560"/>
                <a:chOff x="3200400" y="5181480"/>
                <a:chExt cx="304560" cy="3045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200400" y="518148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rot="5400000">
                <a:off x="106632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148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200400" y="3657600"/>
                <a:ext cx="304560" cy="304560"/>
                <a:chOff x="3200400" y="3657600"/>
                <a:chExt cx="304560" cy="3045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657600" y="3505320"/>
                <a:ext cx="990720" cy="1447920"/>
                <a:chOff x="3657600" y="3505320"/>
                <a:chExt cx="990720" cy="14479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038840" y="3505320"/>
                  <a:ext cx="609480" cy="609480"/>
                  <a:chOff x="4038840" y="3505320"/>
                  <a:chExt cx="609480" cy="6094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>
                    <a:off x="4038480" y="350532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4331880" y="357372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 flipH="1" rot="5400000">
                  <a:off x="3771720" y="4077000"/>
                  <a:ext cx="533160" cy="60948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3733920" y="4343760"/>
                  <a:ext cx="0" cy="609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3657600" y="4496040"/>
                  <a:ext cx="0" cy="304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8769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341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21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193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72200" y="31244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8880" y="34290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492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2120" y="43434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6688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3429000"/>
                <a:ext cx="45720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1905120" y="3124440"/>
                <a:ext cx="837720" cy="336240"/>
                <a:chOff x="1905120" y="3124440"/>
                <a:chExt cx="837720" cy="3362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905120" y="3124440"/>
                  <a:ext cx="45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K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209680" y="3124440"/>
                  <a:ext cx="5331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334120" y="449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905120" y="3429000"/>
                <a:ext cx="1099080" cy="1184760"/>
                <a:chOff x="1905120" y="3429000"/>
                <a:chExt cx="1099080" cy="118476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1989720" y="359820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905120" y="342900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989720" y="351324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019920" y="3429000"/>
                <a:ext cx="761760" cy="762120"/>
                <a:chOff x="6019920" y="3429000"/>
                <a:chExt cx="761760" cy="762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019920" y="342900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095880" y="3505320"/>
                  <a:ext cx="593280" cy="59364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117840" y="3581640"/>
                  <a:ext cx="510840" cy="515880"/>
                </a:xfrm>
                <a:custGeom>
                  <a:avLst/>
                  <a:gdLst/>
                  <a:ahLst/>
                  <a:rect l="l" t="t" r="r" b="b"/>
                  <a:pathLst>
                    <a:path w="322" h="325">
                      <a:moveTo>
                        <a:pt x="0" y="325"/>
                      </a:moveTo>
                      <a:lnTo>
                        <a:pt x="322" y="0"/>
                      </a:ln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266688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05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48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864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81680" y="3810240"/>
                <a:ext cx="1219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6858000" y="1752840"/>
                    <a:ext cx="42084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4" name=""/>
              <p:cNvSpPr/>
              <p:nvPr/>
            </p:nvSpPr>
            <p:spPr>
              <a:xfrm>
                <a:off x="304920" y="381024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06760" y="3810240"/>
                <a:ext cx="3667320" cy="1544400"/>
              </a:xfrm>
              <a:custGeom>
                <a:avLst/>
                <a:gdLst/>
                <a:ahLst/>
                <a:rect l="l" t="t" r="r" b="b"/>
                <a:pathLst>
                  <a:path w="2310" h="973">
                    <a:moveTo>
                      <a:pt x="2303" y="0"/>
                    </a:moveTo>
                    <a:lnTo>
                      <a:pt x="2310" y="973"/>
                    </a:lnTo>
                    <a:lnTo>
                      <a:pt x="0" y="97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08160" y="3962520"/>
                <a:ext cx="1987560" cy="1382760"/>
              </a:xfrm>
              <a:custGeom>
                <a:avLst/>
                <a:gdLst/>
                <a:ahLst/>
                <a:rect l="l" t="t" r="r" b="b"/>
                <a:pathLst>
                  <a:path w="1252" h="871">
                    <a:moveTo>
                      <a:pt x="1252" y="871"/>
                    </a:moveTo>
                    <a:lnTo>
                      <a:pt x="0" y="865"/>
                    </a:lnTo>
                    <a:lnTo>
                      <a:pt x="7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46560" y="2078280"/>
                <a:ext cx="5184720" cy="3995640"/>
              </a:xfrm>
              <a:custGeom>
                <a:avLst/>
                <a:gdLst/>
                <a:ahLst/>
                <a:rect l="l" t="t" r="r" b="b"/>
                <a:pathLst>
                  <a:path w="3266" h="2517">
                    <a:moveTo>
                      <a:pt x="2075" y="0"/>
                    </a:moveTo>
                    <a:lnTo>
                      <a:pt x="3266" y="0"/>
                    </a:lnTo>
                    <a:lnTo>
                      <a:pt x="3261" y="2517"/>
                    </a:lnTo>
                    <a:lnTo>
                      <a:pt x="0" y="2517"/>
                    </a:lnTo>
                    <a:lnTo>
                      <a:pt x="6" y="215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52680" y="2992680"/>
                <a:ext cx="5170680" cy="664920"/>
              </a:xfrm>
              <a:custGeom>
                <a:avLst/>
                <a:gdLst/>
                <a:ahLst/>
                <a:rect l="l" t="t" r="r" b="b"/>
                <a:pathLst>
                  <a:path w="3257" h="419">
                    <a:moveTo>
                      <a:pt x="3257" y="0"/>
                    </a:moveTo>
                    <a:lnTo>
                      <a:pt x="2" y="0"/>
                    </a:lnTo>
                    <a:lnTo>
                      <a:pt x="0" y="41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34120" y="3962520"/>
                <a:ext cx="0" cy="990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DC motoru s cizím buzením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1066680"/>
            <a:ext cx="5562720" cy="1676520"/>
          </a:xfrm>
          <a:prstGeom prst="rect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52388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Obvod cívky cizího budíc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pracovního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19320" y="685800"/>
            <a:ext cx="7086600" cy="3128760"/>
            <a:chOff x="1219320" y="685800"/>
            <a:chExt cx="7086600" cy="3128760"/>
          </a:xfrm>
        </p:grpSpPr>
        <p:grpSp>
          <p:nvGrpSpPr>
            <p:cNvPr id="505" name=""/>
            <p:cNvGrpSpPr/>
            <p:nvPr/>
          </p:nvGrpSpPr>
          <p:grpSpPr>
            <a:xfrm>
              <a:off x="3549240" y="2438280"/>
              <a:ext cx="1099080" cy="1184760"/>
              <a:chOff x="3549240" y="2438280"/>
              <a:chExt cx="1099080" cy="118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3549240" y="2607480"/>
                <a:ext cx="1014480" cy="101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886560" y="2438280"/>
                <a:ext cx="761400" cy="761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971880" y="2522520"/>
                <a:ext cx="591840" cy="59256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48120" y="1904760"/>
              <a:ext cx="2438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omentová charakteristika pracovního stro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5400000">
              <a:off x="2819160" y="266688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121896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916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8636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2160" y="2438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9092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840" y="6858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360" y="990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9320" y="99036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29160" y="19810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886560" y="990360"/>
              <a:ext cx="761760" cy="762120"/>
              <a:chOff x="3886560" y="990360"/>
              <a:chExt cx="761760" cy="762120"/>
            </a:xfrm>
          </p:grpSpPr>
          <p:sp>
            <p:nvSpPr>
              <p:cNvPr id="521" name=""/>
              <p:cNvSpPr/>
              <p:nvPr/>
            </p:nvSpPr>
            <p:spPr>
              <a:xfrm>
                <a:off x="3886560" y="990360"/>
                <a:ext cx="761760" cy="762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62520" y="1066680"/>
                <a:ext cx="593280" cy="59364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84480" y="1143000"/>
                <a:ext cx="510840" cy="515880"/>
              </a:xfrm>
              <a:custGeom>
                <a:avLst/>
                <a:gdLst/>
                <a:ahLst/>
                <a:rect l="l" t="t" r="r" b="b"/>
                <a:pathLst>
                  <a:path w="322" h="325">
                    <a:moveTo>
                      <a:pt x="0" y="325"/>
                    </a:moveTo>
                    <a:lnTo>
                      <a:pt x="322" y="0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371960" y="1371600"/>
              <a:ext cx="761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124080" y="2819160"/>
              <a:ext cx="762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8320" y="1371600"/>
              <a:ext cx="2819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38640" y="1371600"/>
              <a:ext cx="1447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360" y="1523880"/>
              <a:ext cx="533160" cy="1295280"/>
            </a:xfrm>
            <a:custGeom>
              <a:avLst/>
              <a:gdLst/>
              <a:ahLst/>
              <a:rect l="l" t="t" r="r" b="b"/>
              <a:pathLst>
                <a:path w="336" h="816">
                  <a:moveTo>
                    <a:pt x="336" y="816"/>
                  </a:moveTo>
                  <a:lnTo>
                    <a:pt x="0" y="81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8320" y="1371600"/>
              <a:ext cx="1295640" cy="144756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912"/>
                  </a:moveTo>
                  <a:lnTo>
                    <a:pt x="816" y="912"/>
                  </a:lnTo>
                  <a:lnTo>
                    <a:pt x="81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2160" y="2971800"/>
              <a:ext cx="3755880" cy="842760"/>
            </a:xfrm>
            <a:custGeom>
              <a:avLst/>
              <a:gdLst/>
              <a:ahLst/>
              <a:rect l="l" t="t" r="r" b="b"/>
              <a:pathLst>
                <a:path w="2366" h="531">
                  <a:moveTo>
                    <a:pt x="0" y="0"/>
                  </a:moveTo>
                  <a:lnTo>
                    <a:pt x="0" y="528"/>
                  </a:lnTo>
                  <a:lnTo>
                    <a:pt x="2366" y="53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3504960"/>
              <a:ext cx="525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oruchová složka momentu pracovního stro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320" y="41148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yjádření momentové charakteristiky pracovního stroj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33520" y="4495680"/>
                <a:ext cx="3706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3581280" y="5257800"/>
            <a:ext cx="762120" cy="228600"/>
            <a:chOff x="3581280" y="5257800"/>
            <a:chExt cx="762120" cy="228600"/>
          </a:xfrm>
        </p:grpSpPr>
        <p:sp>
          <p:nvSpPr>
            <p:cNvPr id="535" name=""/>
            <p:cNvSpPr/>
            <p:nvPr/>
          </p:nvSpPr>
          <p:spPr>
            <a:xfrm>
              <a:off x="3581280" y="525780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33920" y="5257800"/>
              <a:ext cx="60948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0"/>
                  </a:moveTo>
                  <a:lnTo>
                    <a:pt x="0" y="144"/>
                  </a:lnTo>
                  <a:lnTo>
                    <a:pt x="384" y="144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343400" y="53341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úhlová rych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5638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hodnota pracovn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59436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Tahoma"/>
              </a:rPr>
              <a:t>třecí moment (Coulombovo tř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5105520"/>
            <a:ext cx="2057400" cy="685800"/>
            <a:chOff x="2286000" y="5105520"/>
            <a:chExt cx="2057400" cy="685800"/>
          </a:xfrm>
        </p:grpSpPr>
        <p:sp>
          <p:nvSpPr>
            <p:cNvPr id="541" name=""/>
            <p:cNvSpPr/>
            <p:nvPr/>
          </p:nvSpPr>
          <p:spPr>
            <a:xfrm>
              <a:off x="22860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38280" y="51055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1200" y="432"/>
                  </a:move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600200" y="5105520"/>
            <a:ext cx="2743200" cy="990360"/>
            <a:chOff x="1600200" y="5105520"/>
            <a:chExt cx="2743200" cy="990360"/>
          </a:xfrm>
        </p:grpSpPr>
        <p:sp>
          <p:nvSpPr>
            <p:cNvPr id="544" name=""/>
            <p:cNvSpPr/>
            <p:nvPr/>
          </p:nvSpPr>
          <p:spPr>
            <a:xfrm>
              <a:off x="16002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2480" y="5105520"/>
              <a:ext cx="2590920" cy="990360"/>
            </a:xfrm>
            <a:custGeom>
              <a:avLst/>
              <a:gdLst/>
              <a:ahLst/>
              <a:rect l="l" t="t" r="r" b="b"/>
              <a:pathLst>
                <a:path w="1632" h="624">
                  <a:moveTo>
                    <a:pt x="1632" y="624"/>
                  </a:move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03:19Z</dcterms:created>
  <dc:creator>Ing. František Procházka, Ph.D.</dc:creator>
  <dc:description/>
  <dc:language>en-US</dc:language>
  <cp:lastModifiedBy>Ing. František Procházka, Ph.D.</cp:lastModifiedBy>
  <dcterms:modified xsi:type="dcterms:W3CDTF">2003-05-29T15:27:26Z</dcterms:modified>
  <cp:revision>19</cp:revision>
  <dc:subject/>
  <dc:title>Prezentace aplikace PowerPoint</dc:title>
</cp:coreProperties>
</file>